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F4AAE-BBE4-477B-86E5-E222D2A95D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690D3-C565-474A-85BF-0019AC830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14C46-1705-4584-8894-05F37F317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operability framework allows us to work in focused collaboration.  Focused collaboration means that we’re engaging a broad array of stakeholders in the development process, but managing their work property to ensure the most efficient and effective process.  What we don’t want to see is a high degree of focus (top down, heavy-handed government-driven process) with little participation from outside stakeholders; nor do we want a highly participatory process with no strong focus that results in a lot of great ideas, but no results.  We’re seeking the best of both wor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61661-244F-48FA-B3AA-73098A7B8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raphic illustrates a process by which we’ll engage a broad range of stakeholders to develop specifications and standards in an organized and efficient manner.  I’ll expand on each area in this pres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87F58-4839-455F-A410-FEBC19519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BEFA-4E35-47A9-96EE-25871AB4E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10B4-C3A1-4578-AF83-610430E2C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8548-A152-4BF7-9B16-B2CFCE8B7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DBD5-CB3E-4D54-8725-DEF010E7A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C14C-8EBB-4D02-BE6A-A43CB9CA7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22AA-E1E4-4AAF-9D75-4A99640C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0D35-CEF4-4182-AFBC-9BD4CFFD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1D00-2E94-4322-9BD7-F8A896EA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1C94-F721-4724-9E60-AEDE91EA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620A-E989-42A6-803A-D8F4DA5C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A52E-3CD7-4637-8771-302A9E16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B7C1-386A-469A-B480-52949681F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C665-605A-4408-9589-DC7B3D90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9FA2-91DE-4754-A5C6-909315FD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495C-6503-419F-A6F9-BE10C62C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3875-B380-4EE1-97E1-BA74BFB0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2F6C-19E7-4F97-987E-763FB4647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6651-EB75-4C93-8A85-C23E50B0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6D53-2C1E-42AC-9252-9BCD4804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3A86-9FB6-47F1-A15F-55416BFA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C1C3-E99E-4AF4-A8B2-1D7C73FF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17F7-E732-42E6-A964-F39A93B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B279-6176-49A5-836E-88178CC4BF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7F2C-8848-4495-94AE-C3C8941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A4DD-00CC-4BDE-8C64-FED4E4F1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1523-82AB-4867-B892-FBF59781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5679-C113-494E-A32E-B6189F11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44B9-7619-40E8-8340-67A7A34D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470-6130-4BD9-9D85-84686D94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755D-C24F-4EDC-B450-68E14BB9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D61A-D9EC-4D0B-AB04-9E5B916D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67F3-4105-4951-B965-E4FADA70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D5FF-C5C5-480C-B0BC-234EFEBC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F2D7-20ED-4B1A-B2AE-AA9B7DA0C5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3981-23ED-4FD6-9388-DD50070B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9D9E-B1B7-4084-A710-CBEC66D1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6FF0-3BD0-4FF5-9FA9-8650C336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30FF-4422-4CC6-B9D4-7A733E5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5BCA-732D-4968-B647-5CD415F0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454F-40EC-4F35-9F30-A9A8C5F9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13E8-65ED-4CEE-B362-5CAB15EC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9F385-6062-4E69-BA39-EBBD4E7A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69CC-21E6-43B4-A469-2FEE35F7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63EFD-4523-41C5-B5C5-865B8264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B9E6-3D7E-4586-974D-CE06E5A482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04C5-45CC-4EF8-8D49-BE95E29D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9190-85E3-48FA-9727-E2FE705A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CD07-C70B-4582-829E-C140DB7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5D4B-80CF-427E-8B1F-BF4E4AA8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6C8B-3D2E-4C00-BD25-F5FDFE0F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9F98B-EB01-4F7F-864E-1F8A0FB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9C89-E028-4D7B-82BE-8C18D8A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87C3-48A8-4F21-A0C4-37185E3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AB566-2409-434D-83C0-B895B70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2B752-A8A3-4D0D-A2F8-E6DC7445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E071-8783-4A43-8938-5826642982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F4595-5427-4579-B27C-E255F9A9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517AA-004C-45F9-AB34-817AFD75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C3D1E-52E3-4068-9DF9-ED356676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C62C-1E8F-4540-BC56-C24C2299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E0359-BD41-40BF-8A2D-5E29304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56AC1-F16A-462B-9ECB-F5FD4CC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E0EC7-BA94-4521-BA72-56080725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2D40B-2735-4590-82EB-6A1E9BC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F1FB8-94F2-4237-A368-DAFBD3FF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DFCD-5999-4808-8719-DC7D77F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4482-BD6C-4737-AEC8-43AE99117B7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EB42B-5626-4729-AC0B-CE73DC62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75ECD-3B01-438F-B1FF-52154912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85E51-F3A4-4143-BAC4-91229C5C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1B6C-6B60-4353-A1B8-3B6153FF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5DB10-ED86-451D-9647-BBF69F77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98B81-733E-4C25-AE10-55685D42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6B62B-DB5D-417B-9D80-66F90228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9654C-C58A-4795-A7B8-854B38EA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460F-25BA-46BF-9B0F-672B6C11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A5B50-6F5A-43D1-A8EF-5C99CC9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7424-EA78-4926-90BC-2C962592AC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6C71F-0FEF-4C8D-B092-B38F3C01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9534B-9856-4F00-AD6C-18B85DF3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FDFD2-02CB-4385-9EB0-2046A049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DEFF-7A78-4035-948A-2DCC2F7A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CD85C-D9E7-40ED-9340-80E091BC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A4C04-33A4-48CD-88A7-4C16A202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6E55-5E94-4820-B737-11486A78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88BDA-CB97-4C80-B2B6-A4EC68CB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A1987-F219-4B97-952D-16B72180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42D8-EF78-4507-9FC2-CB471CC9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56C6-D041-40C5-BEE3-EF6755A6AD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7540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6704-BD89-42C2-BA12-960083AD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5E2C7-79B4-4C37-ADDB-B84089BB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CD0DF-6E15-49D7-9C20-5D9930B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1BB3F-9ACC-481E-AB7C-CAED40A0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99520" y="3866400"/>
            <a:ext cx="84949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EB3C5-24AF-4E9F-86CC-0844F6F3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2640" y="13446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9952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52640" y="3866400"/>
            <a:ext cx="4145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21EAB-AB39-4CBC-AE83-FCC50AD4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9952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17196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44400" y="13446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29952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17196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44400" y="3866400"/>
            <a:ext cx="2735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D944-229E-44C5-BEED-624CE53D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EE01E-92A0-4CD8-B633-E13C922E24B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0"/>
            <a:ext cx="9151920" cy="13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arrows.png"/>
          <p:cNvPicPr/>
          <p:nvPr/>
        </p:nvPicPr>
        <p:blipFill>
          <a:blip r:embed="rId3"/>
          <a:srcRect l="16941" t="0" r="0" b="0"/>
          <a:stretch/>
        </p:blipFill>
        <p:spPr>
          <a:xfrm>
            <a:off x="-6480" y="628560"/>
            <a:ext cx="1925640" cy="354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doctors.png"/>
          <p:cNvPicPr/>
          <p:nvPr/>
        </p:nvPicPr>
        <p:blipFill>
          <a:blip r:embed="rId4"/>
          <a:stretch/>
        </p:blipFill>
        <p:spPr>
          <a:xfrm>
            <a:off x="3032280" y="2698920"/>
            <a:ext cx="6122880" cy="4167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FAA7A-1B19-4B2A-84CE-A6CB490846A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2044800" y="3532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50020-94D5-419E-9908-B3473BBB4376}" type="datetime">
              <a:rPr b="0" lang="en-US" sz="1400" spc="-1" strike="noStrike">
                <a:solidFill>
                  <a:srgbClr val="595959"/>
                </a:solidFill>
                <a:latin typeface="Times New Roman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5E2F4-367C-4D5A-A6B1-4B1946857DE0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8E1B1-3F04-4182-B43D-5391ADD2ED9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6D6D6-D82D-4243-92F3-C0759E0D6603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66106-1B2C-4E78-8FE6-3111FC5A69C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0D2FF-0466-4836-A873-FF7D8FC6F266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44C39-F853-4FE0-90CD-A0062D6FB93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8612B-4EB7-4753-BFD6-EA748D4033F0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58F42-482B-44ED-9045-A9DAC88E7C4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823A3-DC7D-4B76-967C-66E4EABA20A5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D70E9-ABB8-4487-8ADC-6F7FD61F368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9" descr="Screen shot 2010-01-13 at 12.01.02 PM.png"/>
          <p:cNvPicPr/>
          <p:nvPr/>
        </p:nvPicPr>
        <p:blipFill>
          <a:blip r:embed="rId2"/>
          <a:srcRect l="0" t="6488" r="0" b="3244"/>
          <a:stretch/>
        </p:blipFill>
        <p:spPr>
          <a:xfrm>
            <a:off x="0" y="-1440"/>
            <a:ext cx="9144000" cy="10173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6"/>
          <p:cNvSpPr/>
          <p:nvPr/>
        </p:nvSpPr>
        <p:spPr>
          <a:xfrm>
            <a:off x="7920" y="5607000"/>
            <a:ext cx="9144000" cy="1251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d1931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593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1268E-C93A-4D26-8621-3818DC6DC2A2}" type="datetime">
              <a:rPr b="0" lang="en-US" sz="8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008080" y="6519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624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EB8F7-5683-4BF0-81E8-3D956C213DC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5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25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5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025360" y="1704600"/>
            <a:ext cx="6057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1686c1"/>
                </a:solidFill>
                <a:latin typeface="Arial"/>
              </a:rPr>
              <a:t>Interoperability Framework Overvie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2044800" y="33894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March 24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217440" y="4859280"/>
            <a:ext cx="4586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Present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Douglas Fridsma, MD, P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Acting Director, Office of Interoperability &amp; Standards O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044440" y="2549160"/>
            <a:ext cx="476892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HIT Standards Committee </a:t>
            </a:r>
            <a:endParaRPr b="0" lang="en-US" sz="2200" spc="-1" strike="noStrike">
              <a:solidFill>
                <a:srgbClr val="19234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874880" y="-360"/>
            <a:ext cx="5965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NIEM framework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A common core of concepts, explicitly defined, that are shared across different use cases or domai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Naming and modeling conventions that allow different groups to work independently but harmonize the work together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Based on the ISO-11179 metadata standard used by the NCI, NLM, and standards organizations. 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83" name="Date Placeholder 4"/>
          <p:cNvSpPr/>
          <p:nvPr/>
        </p:nvSpPr>
        <p:spPr>
          <a:xfrm>
            <a:off x="593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A2D68-A799-45C9-A683-D918647881CD}" type="datetime">
              <a:rPr b="0" lang="en-US" sz="8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19"/>
          <p:cNvGrpSpPr/>
          <p:nvPr/>
        </p:nvGrpSpPr>
        <p:grpSpPr>
          <a:xfrm>
            <a:off x="299880" y="1744560"/>
            <a:ext cx="4067280" cy="4017960"/>
            <a:chOff x="299880" y="1744560"/>
            <a:chExt cx="4067280" cy="4017960"/>
          </a:xfrm>
        </p:grpSpPr>
        <p:pic>
          <p:nvPicPr>
            <p:cNvPr id="585" name="Picture 3" descr="Screen shot 2010-03-12 at 1.54.31 PM.png"/>
            <p:cNvPicPr/>
            <p:nvPr/>
          </p:nvPicPr>
          <p:blipFill>
            <a:blip r:embed="rId1"/>
            <a:stretch/>
          </p:blipFill>
          <p:spPr>
            <a:xfrm>
              <a:off x="299880" y="1744560"/>
              <a:ext cx="406728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4"/>
            <p:cNvSpPr/>
            <p:nvPr/>
          </p:nvSpPr>
          <p:spPr>
            <a:xfrm>
              <a:off x="1740960" y="2468160"/>
              <a:ext cx="794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tien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cove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Box 5"/>
            <p:cNvSpPr/>
            <p:nvPr/>
          </p:nvSpPr>
          <p:spPr>
            <a:xfrm>
              <a:off x="2946960" y="3885840"/>
              <a:ext cx="73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por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6"/>
            <p:cNvSpPr/>
            <p:nvPr/>
          </p:nvSpPr>
          <p:spPr>
            <a:xfrm>
              <a:off x="509400" y="3789000"/>
              <a:ext cx="810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char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Box 7"/>
            <p:cNvSpPr/>
            <p:nvPr/>
          </p:nvSpPr>
          <p:spPr>
            <a:xfrm>
              <a:off x="372240" y="3165120"/>
              <a:ext cx="116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vi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ress looku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8"/>
            <p:cNvSpPr/>
            <p:nvPr/>
          </p:nvSpPr>
          <p:spPr>
            <a:xfrm>
              <a:off x="3435840" y="3206520"/>
              <a:ext cx="7642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mains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9"/>
            <p:cNvSpPr/>
            <p:nvPr/>
          </p:nvSpPr>
          <p:spPr>
            <a:xfrm>
              <a:off x="2586600" y="2692080"/>
              <a:ext cx="1005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prescrib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Box 10"/>
            <p:cNvSpPr/>
            <p:nvPr/>
          </p:nvSpPr>
          <p:spPr>
            <a:xfrm>
              <a:off x="853920" y="2692080"/>
              <a:ext cx="787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b dat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11"/>
            <p:cNvSpPr/>
            <p:nvPr/>
          </p:nvSpPr>
          <p:spPr>
            <a:xfrm>
              <a:off x="726840" y="4520880"/>
              <a:ext cx="787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12"/>
            <p:cNvSpPr/>
            <p:nvPr/>
          </p:nvSpPr>
          <p:spPr>
            <a:xfrm>
              <a:off x="1492200" y="4833720"/>
              <a:ext cx="1233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tient summa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13"/>
            <p:cNvSpPr/>
            <p:nvPr/>
          </p:nvSpPr>
          <p:spPr>
            <a:xfrm>
              <a:off x="2649600" y="4400280"/>
              <a:ext cx="810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ild 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mily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14"/>
            <p:cNvSpPr/>
            <p:nvPr/>
          </p:nvSpPr>
          <p:spPr>
            <a:xfrm>
              <a:off x="1775520" y="3638160"/>
              <a:ext cx="74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ounded Rectangle 17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7" descr="harmonize.png"/>
          <p:cNvPicPr/>
          <p:nvPr/>
        </p:nvPicPr>
        <p:blipFill>
          <a:blip r:embed="rId2"/>
          <a:stretch/>
        </p:blipFill>
        <p:spPr>
          <a:xfrm>
            <a:off x="681120" y="96840"/>
            <a:ext cx="423720" cy="3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3" descr=""/>
          <p:cNvPicPr/>
          <p:nvPr/>
        </p:nvPicPr>
        <p:blipFill>
          <a:blip r:embed="rId1"/>
          <a:stretch/>
        </p:blipFill>
        <p:spPr>
          <a:xfrm>
            <a:off x="1944720" y="2111400"/>
            <a:ext cx="4699080" cy="345132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itional services and tools for harm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Date Placeholder 3"/>
          <p:cNvSpPr/>
          <p:nvPr/>
        </p:nvSpPr>
        <p:spPr>
          <a:xfrm>
            <a:off x="669960" y="67658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A0894-3A84-48F0-A63D-55A8CDF1FECB}" type="datetime">
              <a:rPr b="0" lang="en-US" sz="8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ight Arrow 4"/>
          <p:cNvSpPr/>
          <p:nvPr/>
        </p:nvSpPr>
        <p:spPr>
          <a:xfrm rot="19793400">
            <a:off x="6183000" y="2022120"/>
            <a:ext cx="801720" cy="533520"/>
          </a:xfrm>
          <a:prstGeom prst="rightArrow">
            <a:avLst>
              <a:gd name="adj1" fmla="val 50000"/>
              <a:gd name="adj2" fmla="val 49964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8006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7029360" y="1044720"/>
            <a:ext cx="1447920" cy="9903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 Case Model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629400" y="5880240"/>
            <a:ext cx="1447920" cy="914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enMDR Based Meta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ight Arrow 7"/>
          <p:cNvSpPr/>
          <p:nvPr/>
        </p:nvSpPr>
        <p:spPr>
          <a:xfrm rot="1661400">
            <a:off x="6269040" y="5191200"/>
            <a:ext cx="900000" cy="442800"/>
          </a:xfrm>
          <a:prstGeom prst="rightArrow">
            <a:avLst>
              <a:gd name="adj1" fmla="val 50000"/>
              <a:gd name="adj2" fmla="val 4991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4538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own Arrow 8"/>
          <p:cNvSpPr/>
          <p:nvPr/>
        </p:nvSpPr>
        <p:spPr>
          <a:xfrm rot="7533000">
            <a:off x="2186640" y="1865880"/>
            <a:ext cx="654120" cy="985680"/>
          </a:xfrm>
          <a:prstGeom prst="downArrow">
            <a:avLst>
              <a:gd name="adj1" fmla="val 50000"/>
              <a:gd name="adj2" fmla="val 50062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867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704880" y="1120680"/>
            <a:ext cx="1371600" cy="914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rvice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762120" y="5880240"/>
            <a:ext cx="1523880" cy="838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xGrid Based Vocabulary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ight Arrow 11"/>
          <p:cNvSpPr/>
          <p:nvPr/>
        </p:nvSpPr>
        <p:spPr>
          <a:xfrm rot="8265000">
            <a:off x="2215440" y="5329080"/>
            <a:ext cx="834840" cy="533520"/>
          </a:xfrm>
          <a:prstGeom prst="rightArrow">
            <a:avLst>
              <a:gd name="adj1" fmla="val 50000"/>
              <a:gd name="adj2" fmla="val 49921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7938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96"/>
          <p:cNvGrpSpPr/>
          <p:nvPr/>
        </p:nvGrpSpPr>
        <p:grpSpPr>
          <a:xfrm>
            <a:off x="7257960" y="2187720"/>
            <a:ext cx="1143000" cy="914400"/>
            <a:chOff x="7257960" y="2187720"/>
            <a:chExt cx="1143000" cy="914400"/>
          </a:xfrm>
        </p:grpSpPr>
        <p:sp>
          <p:nvSpPr>
            <p:cNvPr id="611" name="Rounded Rectangle 13"/>
            <p:cNvSpPr/>
            <p:nvPr/>
          </p:nvSpPr>
          <p:spPr>
            <a:xfrm>
              <a:off x="7257960" y="2311560"/>
              <a:ext cx="1143000" cy="7905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Use Case Development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and Functional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2" name="Picture 87" descr="folder.png"/>
            <p:cNvPicPr/>
            <p:nvPr/>
          </p:nvPicPr>
          <p:blipFill>
            <a:blip r:embed="rId2"/>
            <a:stretch/>
          </p:blipFill>
          <p:spPr>
            <a:xfrm>
              <a:off x="7597440" y="2187720"/>
              <a:ext cx="294480" cy="31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Group 99"/>
          <p:cNvGrpSpPr/>
          <p:nvPr/>
        </p:nvGrpSpPr>
        <p:grpSpPr>
          <a:xfrm>
            <a:off x="3962520" y="5956200"/>
            <a:ext cx="1447560" cy="887400"/>
            <a:chOff x="3962520" y="5956200"/>
            <a:chExt cx="1447560" cy="887400"/>
          </a:xfrm>
        </p:grpSpPr>
        <p:sp>
          <p:nvSpPr>
            <p:cNvPr id="614" name="Rounded Rectangle 16"/>
            <p:cNvSpPr/>
            <p:nvPr/>
          </p:nvSpPr>
          <p:spPr>
            <a:xfrm>
              <a:off x="3962520" y="6021000"/>
              <a:ext cx="144756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Harmonization of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Core Concep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90" descr="harmonize.png"/>
            <p:cNvPicPr/>
            <p:nvPr/>
          </p:nvPicPr>
          <p:blipFill>
            <a:blip r:embed="rId3"/>
            <a:stretch/>
          </p:blipFill>
          <p:spPr>
            <a:xfrm>
              <a:off x="4439520" y="5956200"/>
              <a:ext cx="47700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6" name="Right Arrow 18"/>
          <p:cNvSpPr/>
          <p:nvPr/>
        </p:nvSpPr>
        <p:spPr>
          <a:xfrm>
            <a:off x="5543640" y="6118200"/>
            <a:ext cx="6858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246aa2"/>
          </a:solidFill>
          <a:ln w="25560">
            <a:solidFill>
              <a:srgbClr val="174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ight Arrow 19"/>
          <p:cNvSpPr/>
          <p:nvPr/>
        </p:nvSpPr>
        <p:spPr>
          <a:xfrm rot="10800000">
            <a:off x="2895480" y="610884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46aa2"/>
          </a:solidFill>
          <a:ln w="25560">
            <a:solidFill>
              <a:srgbClr val="174c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100"/>
          <p:cNvGrpSpPr/>
          <p:nvPr/>
        </p:nvGrpSpPr>
        <p:grpSpPr>
          <a:xfrm>
            <a:off x="857160" y="2416320"/>
            <a:ext cx="1212840" cy="852480"/>
            <a:chOff x="857160" y="2416320"/>
            <a:chExt cx="1212840" cy="852480"/>
          </a:xfrm>
        </p:grpSpPr>
        <p:sp>
          <p:nvSpPr>
            <p:cNvPr id="619" name="Rounded Rectangle 21"/>
            <p:cNvSpPr/>
            <p:nvPr/>
          </p:nvSpPr>
          <p:spPr>
            <a:xfrm>
              <a:off x="857160" y="244620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Calibri"/>
                </a:rPr>
                <a:t>Implementation Specif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Picture 91" descr="Screen shot 2010-03-10 at 2.04.54 PM.png"/>
            <p:cNvPicPr/>
            <p:nvPr/>
          </p:nvPicPr>
          <p:blipFill>
            <a:blip r:embed="rId4"/>
            <a:stretch/>
          </p:blipFill>
          <p:spPr>
            <a:xfrm>
              <a:off x="1259280" y="2416320"/>
              <a:ext cx="392400" cy="310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ndards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Gaps in existing standard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Data packag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Value set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Can be identified as part of the use case development and harmonization process 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Work with SDOs (NLM, HL7 etc) to fill in gap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Allows the standards work to proceed in parallel with development of the implementation specific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0BC0B-D274-40C6-8CF0-B373A262637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Straight Arrow Connector 4"/>
          <p:cNvCxnSpPr>
            <a:stCxn id="625" idx="3"/>
            <a:endCxn id="626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27" name="Straight Arrow Connector 5"/>
          <p:cNvCxnSpPr>
            <a:stCxn id="626" idx="3"/>
            <a:endCxn id="628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29" name="Straight Arrow Connector 6"/>
          <p:cNvCxnSpPr>
            <a:stCxn id="628" idx="3"/>
            <a:endCxn id="630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31" name="Straight Arrow Connector 7"/>
          <p:cNvCxnSpPr>
            <a:stCxn id="630" idx="3"/>
            <a:endCxn id="632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33" name="Straight Arrow Connector 8"/>
          <p:cNvCxnSpPr>
            <a:stCxn id="634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635" name="Straight Arrow Connector 9"/>
          <p:cNvCxnSpPr>
            <a:stCxn id="636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625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634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632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626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628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636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630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644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andard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7" descr="tools.png"/>
          <p:cNvPicPr/>
          <p:nvPr/>
        </p:nvPicPr>
        <p:blipFill>
          <a:blip r:embed="rId8"/>
          <a:stretch/>
        </p:blipFill>
        <p:spPr>
          <a:xfrm>
            <a:off x="698400" y="25560"/>
            <a:ext cx="381240" cy="39996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47" name="Rounded Rectangle 52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Straight Arrow Connector 53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9" name="Straight Arrow Connector 54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0" name="Straight Arrow Connector 55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1" name="Straight Arrow Connector 56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2" name="Straight Arrow Connector 57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Specif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If the standards, services and policies are the 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ingredients</a:t>
            </a: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, then the implementation specification is the 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recipe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Packaged together to support use ca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Guides development of reference implement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Interim Final Rule requires creation of Implementation Specifications where they don’t exist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7CCFA-3D89-4EBA-BB27-60A01BFD4AF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6" name="Straight Arrow Connector 4"/>
          <p:cNvCxnSpPr>
            <a:stCxn id="657" idx="3"/>
            <a:endCxn id="658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59" name="Straight Arrow Connector 5"/>
          <p:cNvCxnSpPr>
            <a:stCxn id="658" idx="3"/>
            <a:endCxn id="660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61" name="Straight Arrow Connector 6"/>
          <p:cNvCxnSpPr>
            <a:stCxn id="660" idx="3"/>
            <a:endCxn id="662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63" name="Straight Arrow Connector 7"/>
          <p:cNvCxnSpPr>
            <a:stCxn id="662" idx="3"/>
            <a:endCxn id="664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65" name="Straight Arrow Connector 8"/>
          <p:cNvCxnSpPr>
            <a:stCxn id="666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667" name="Straight Arrow Connector 9"/>
          <p:cNvCxnSpPr>
            <a:stCxn id="668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657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666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664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658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660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668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662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676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plementation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7" descr="Screen shot 2010-03-10 at 2.04.54 PM.png"/>
          <p:cNvPicPr/>
          <p:nvPr/>
        </p:nvPicPr>
        <p:blipFill>
          <a:blip r:embed="rId8"/>
          <a:stretch/>
        </p:blipFill>
        <p:spPr>
          <a:xfrm>
            <a:off x="698400" y="88920"/>
            <a:ext cx="387360" cy="3063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457200" y="3416040"/>
            <a:ext cx="4038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An implementation specification becomes a explicit description of the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andard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ervices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Policies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That conform to adopted standards and have sufficient detail to be implemented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79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0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1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2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3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4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ferenc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Specification must be tested to make sure they are implementabl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Can be used by others to help guide their own implementation or find problems with specific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Encourages feedback to ONC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687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7495A-FF0F-445C-8F73-EFC8FFF8D6B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Straight Arrow Connector 4"/>
          <p:cNvCxnSpPr>
            <a:stCxn id="689" idx="3"/>
            <a:endCxn id="690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91" name="Straight Arrow Connector 5"/>
          <p:cNvCxnSpPr>
            <a:stCxn id="690" idx="3"/>
            <a:endCxn id="692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93" name="Straight Arrow Connector 6"/>
          <p:cNvCxnSpPr>
            <a:stCxn id="692" idx="3"/>
            <a:endCxn id="694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95" name="Straight Arrow Connector 7"/>
          <p:cNvCxnSpPr>
            <a:stCxn id="694" idx="3"/>
            <a:endCxn id="696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697" name="Straight Arrow Connector 8"/>
          <p:cNvCxnSpPr>
            <a:stCxn id="698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699" name="Straight Arrow Connector 9"/>
          <p:cNvCxnSpPr>
            <a:stCxn id="700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689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698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696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690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692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700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694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708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ference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9" descr="check.png"/>
          <p:cNvPicPr/>
          <p:nvPr/>
        </p:nvPicPr>
        <p:blipFill>
          <a:blip r:embed="rId8"/>
          <a:stretch/>
        </p:blipFill>
        <p:spPr>
          <a:xfrm>
            <a:off x="711360" y="270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Example: CONNECT software could potentially be the reference implementation of NHIN specifications and standard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11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2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3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4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5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6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lot Demonstration Pro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Reference implementation in use by stakeholder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Confirms use case is being supported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ONC should provide coordination of pilot demonstr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19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D9D08-EB63-48D0-8054-B7715D7B49D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"/>
          <p:cNvCxnSpPr>
            <a:stCxn id="721" idx="3"/>
            <a:endCxn id="722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23" name="Straight Arrow Connector 5"/>
          <p:cNvCxnSpPr>
            <a:stCxn id="722" idx="3"/>
            <a:endCxn id="724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25" name="Straight Arrow Connector 6"/>
          <p:cNvCxnSpPr>
            <a:stCxn id="724" idx="3"/>
            <a:endCxn id="726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27" name="Straight Arrow Connector 7"/>
          <p:cNvCxnSpPr>
            <a:stCxn id="726" idx="3"/>
            <a:endCxn id="728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29" name="Straight Arrow Connector 8"/>
          <p:cNvCxnSpPr>
            <a:stCxn id="730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731" name="Straight Arrow Connector 9"/>
          <p:cNvCxnSpPr>
            <a:stCxn id="732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721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730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728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722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724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732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726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740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ilot Demonstration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47" descr="pilot.png"/>
          <p:cNvPicPr/>
          <p:nvPr/>
        </p:nvPicPr>
        <p:blipFill>
          <a:blip r:embed="rId8"/>
          <a:stretch/>
        </p:blipFill>
        <p:spPr>
          <a:xfrm>
            <a:off x="635040" y="-20520"/>
            <a:ext cx="457200" cy="4521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NHIN Trial Implement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NHIN Limited Production Exchang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NHIN Direct Project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43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4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5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6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7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8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rtification and Tes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Culmination of prior activitie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NIST can help create test harnesses to ensure conformance with specification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64900-3992-4957-A31C-2E90775F2675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Straight Arrow Connector 4"/>
          <p:cNvCxnSpPr>
            <a:stCxn id="753" idx="3"/>
            <a:endCxn id="754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55" name="Straight Arrow Connector 5"/>
          <p:cNvCxnSpPr>
            <a:stCxn id="754" idx="3"/>
            <a:endCxn id="756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57" name="Straight Arrow Connector 6"/>
          <p:cNvCxnSpPr>
            <a:stCxn id="756" idx="3"/>
            <a:endCxn id="758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59" name="Straight Arrow Connector 7"/>
          <p:cNvCxnSpPr>
            <a:stCxn id="758" idx="3"/>
            <a:endCxn id="760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61" name="Straight Arrow Connector 8"/>
          <p:cNvCxnSpPr>
            <a:stCxn id="762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763" name="Straight Arrow Connector 9"/>
          <p:cNvCxnSpPr>
            <a:stCxn id="764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753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762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760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754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756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764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772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rtification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d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47" descr="computer.png"/>
          <p:cNvPicPr/>
          <p:nvPr/>
        </p:nvPicPr>
        <p:blipFill>
          <a:blip r:embed="rId8"/>
          <a:stretch/>
        </p:blipFill>
        <p:spPr>
          <a:xfrm>
            <a:off x="647640" y="0"/>
            <a:ext cx="471600" cy="4111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NIST Conformance tool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686c1"/>
                </a:solidFill>
                <a:latin typeface="Arial"/>
              </a:rPr>
              <a:t>Tools and resources for certification processe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75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7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8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9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0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s and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Make the process as automated and self-serve as possibl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686c1"/>
                </a:solidFill>
                <a:latin typeface="Arial"/>
              </a:rPr>
              <a:t>Leverage tools &amp; services in future effort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783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A7667-8A74-4279-A914-877D2815FA2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Straight Arrow Connector 4"/>
          <p:cNvCxnSpPr>
            <a:stCxn id="785" idx="3"/>
            <a:endCxn id="786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87" name="Straight Arrow Connector 5"/>
          <p:cNvCxnSpPr>
            <a:stCxn id="786" idx="3"/>
            <a:endCxn id="788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89" name="Straight Arrow Connector 6"/>
          <p:cNvCxnSpPr>
            <a:stCxn id="788" idx="3"/>
            <a:endCxn id="790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91" name="Straight Arrow Connector 7"/>
          <p:cNvCxnSpPr>
            <a:stCxn id="790" idx="3"/>
            <a:endCxn id="792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793" name="Straight Arrow Connector 8"/>
          <p:cNvCxnSpPr>
            <a:stCxn id="794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795" name="Straight Arrow Connector 9"/>
          <p:cNvCxnSpPr>
            <a:stCxn id="796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797" name="Rounded Rectangle 17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794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792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786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788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796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790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457200" y="3416400"/>
            <a:ext cx="403848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cxnSp>
        <p:nvCxnSpPr>
          <p:cNvPr id="806" name="Straight Arrow Connector 46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7" name="Straight Arrow Connector 47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8" name="Straight Arrow Connector 48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9" name="Straight Arrow Connector 49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0" name="Straight Arrow Connector 50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ttom Up Innovation within 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rdination Frame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12" name="Straight Arrow Connector 4"/>
          <p:cNvCxnSpPr/>
          <p:nvPr/>
        </p:nvCxnSpPr>
        <p:spPr>
          <a:xfrm>
            <a:off x="2011320" y="3322800"/>
            <a:ext cx="24984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813" name="Straight Arrow Connector 5"/>
          <p:cNvCxnSpPr/>
          <p:nvPr/>
        </p:nvCxnSpPr>
        <p:spPr>
          <a:xfrm>
            <a:off x="3708360" y="3322800"/>
            <a:ext cx="32472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814" name="Straight Arrow Connector 6"/>
          <p:cNvCxnSpPr/>
          <p:nvPr/>
        </p:nvCxnSpPr>
        <p:spPr>
          <a:xfrm>
            <a:off x="5244840" y="3322800"/>
            <a:ext cx="43092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815" name="Straight Arrow Connector 7"/>
          <p:cNvCxnSpPr/>
          <p:nvPr/>
        </p:nvCxnSpPr>
        <p:spPr>
          <a:xfrm>
            <a:off x="6887880" y="3322800"/>
            <a:ext cx="40860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816" name="Straight Arrow Connector 8"/>
          <p:cNvCxnSpPr/>
          <p:nvPr/>
        </p:nvCxnSpPr>
        <p:spPr>
          <a:xfrm flipH="1">
            <a:off x="2980440" y="2512800"/>
            <a:ext cx="2520" cy="3067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17" name="Straight Arrow Connector 9"/>
          <p:cNvCxnSpPr/>
          <p:nvPr/>
        </p:nvCxnSpPr>
        <p:spPr>
          <a:xfrm flipH="1">
            <a:off x="6284160" y="2513160"/>
            <a:ext cx="3960" cy="35784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sp>
        <p:nvSpPr>
          <p:cNvPr id="818" name="Rounded Rectangle 17"/>
          <p:cNvSpPr/>
          <p:nvPr/>
        </p:nvSpPr>
        <p:spPr>
          <a:xfrm>
            <a:off x="757080" y="4890960"/>
            <a:ext cx="76392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1000"/>
            </a:br>
            <a:r>
              <a:rPr b="1" lang="en-US" sz="10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Straight Arrow Connector 18"/>
          <p:cNvCxnSpPr/>
          <p:nvPr/>
        </p:nvCxnSpPr>
        <p:spPr>
          <a:xfrm flipH="1">
            <a:off x="4637880" y="3735360"/>
            <a:ext cx="2520" cy="115632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0" name="Straight Arrow Connector 19"/>
          <p:cNvCxnSpPr/>
          <p:nvPr/>
        </p:nvCxnSpPr>
        <p:spPr>
          <a:xfrm>
            <a:off x="1280160" y="3733920"/>
            <a:ext cx="1080" cy="115488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1" name="Straight Arrow Connector 20"/>
          <p:cNvCxnSpPr/>
          <p:nvPr/>
        </p:nvCxnSpPr>
        <p:spPr>
          <a:xfrm flipH="1">
            <a:off x="2979360" y="3735360"/>
            <a:ext cx="2160" cy="115632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2" name="Straight Arrow Connector 21"/>
          <p:cNvCxnSpPr/>
          <p:nvPr/>
        </p:nvCxnSpPr>
        <p:spPr>
          <a:xfrm>
            <a:off x="6287040" y="3733920"/>
            <a:ext cx="1080" cy="115488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3" name="Straight Arrow Connector 22"/>
          <p:cNvCxnSpPr/>
          <p:nvPr/>
        </p:nvCxnSpPr>
        <p:spPr>
          <a:xfrm flipH="1">
            <a:off x="7900200" y="3735360"/>
            <a:ext cx="3960" cy="115488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9"/>
          <p:cNvSpPr/>
          <p:nvPr/>
        </p:nvSpPr>
        <p:spPr>
          <a:xfrm>
            <a:off x="1459080" y="412092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Information Model, Services, and</a:t>
            </a:r>
            <a:br>
              <a:rPr sz="1000"/>
            </a:b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Value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51"/>
          <p:cNvSpPr/>
          <p:nvPr/>
        </p:nvSpPr>
        <p:spPr>
          <a:xfrm>
            <a:off x="2982960" y="412092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Harmonize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Implementation</a:t>
            </a:r>
            <a:br>
              <a:rPr sz="1000"/>
            </a:b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Spec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52"/>
          <p:cNvSpPr/>
          <p:nvPr/>
        </p:nvSpPr>
        <p:spPr>
          <a:xfrm>
            <a:off x="6461280" y="4197240"/>
            <a:ext cx="13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Integration Testing and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54"/>
          <p:cNvSpPr/>
          <p:nvPr/>
        </p:nvSpPr>
        <p:spPr>
          <a:xfrm>
            <a:off x="4829040" y="4196520"/>
            <a:ext cx="130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Reference</a:t>
            </a:r>
            <a:br>
              <a:rPr sz="1000"/>
            </a:br>
            <a:r>
              <a:rPr b="1" lang="en-US" sz="1000" spc="-1" strike="noStrike">
                <a:solidFill>
                  <a:srgbClr val="17254b"/>
                </a:solidFill>
                <a:latin typeface="Arial"/>
              </a:rPr>
              <a:t>Code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31"/>
          <p:cNvCxnSpPr/>
          <p:nvPr/>
        </p:nvCxnSpPr>
        <p:spPr>
          <a:xfrm>
            <a:off x="2742840" y="4378320"/>
            <a:ext cx="47556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9" name="Straight Arrow Connector 32"/>
          <p:cNvCxnSpPr/>
          <p:nvPr/>
        </p:nvCxnSpPr>
        <p:spPr>
          <a:xfrm>
            <a:off x="4347720" y="4378320"/>
            <a:ext cx="58356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30" name="Straight Arrow Connector 33"/>
          <p:cNvCxnSpPr/>
          <p:nvPr/>
        </p:nvCxnSpPr>
        <p:spPr>
          <a:xfrm>
            <a:off x="6029280" y="4378320"/>
            <a:ext cx="465840" cy="216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sp>
        <p:nvSpPr>
          <p:cNvPr id="831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FE4AE-65DE-4F8D-9908-8AFD7D25256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68" descr="Screen shot 2010-03-10 at 1.42.30 PM.png"/>
          <p:cNvPicPr/>
          <p:nvPr/>
        </p:nvPicPr>
        <p:blipFill>
          <a:blip r:embed="rId1"/>
          <a:stretch/>
        </p:blipFill>
        <p:spPr>
          <a:xfrm>
            <a:off x="2362320" y="3803760"/>
            <a:ext cx="198360" cy="2793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9" descr="Screen shot 2010-03-10 at 1.42.19 PM.png"/>
          <p:cNvPicPr/>
          <p:nvPr/>
        </p:nvPicPr>
        <p:blipFill>
          <a:blip r:embed="rId2"/>
          <a:stretch/>
        </p:blipFill>
        <p:spPr>
          <a:xfrm>
            <a:off x="1770120" y="3813120"/>
            <a:ext cx="177840" cy="27000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96"/>
          <p:cNvGrpSpPr/>
          <p:nvPr/>
        </p:nvGrpSpPr>
        <p:grpSpPr>
          <a:xfrm>
            <a:off x="507960" y="2751120"/>
            <a:ext cx="1503360" cy="982800"/>
            <a:chOff x="507960" y="2751120"/>
            <a:chExt cx="1503360" cy="982800"/>
          </a:xfrm>
        </p:grpSpPr>
        <p:sp>
          <p:nvSpPr>
            <p:cNvPr id="835" name="Rounded Rectangle 10"/>
            <p:cNvSpPr/>
            <p:nvPr/>
          </p:nvSpPr>
          <p:spPr>
            <a:xfrm>
              <a:off x="507960" y="2911320"/>
              <a:ext cx="150336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Use Case Development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and Functional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6" name="Picture 87" descr="folder.png"/>
            <p:cNvPicPr/>
            <p:nvPr/>
          </p:nvPicPr>
          <p:blipFill>
            <a:blip r:embed="rId3"/>
            <a:stretch/>
          </p:blipFill>
          <p:spPr>
            <a:xfrm>
              <a:off x="1023480" y="2751120"/>
              <a:ext cx="44712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7" name="Group 97"/>
          <p:cNvGrpSpPr/>
          <p:nvPr/>
        </p:nvGrpSpPr>
        <p:grpSpPr>
          <a:xfrm>
            <a:off x="2362320" y="1587600"/>
            <a:ext cx="1212840" cy="923760"/>
            <a:chOff x="2362320" y="1587600"/>
            <a:chExt cx="1212840" cy="923760"/>
          </a:xfrm>
        </p:grpSpPr>
        <p:sp>
          <p:nvSpPr>
            <p:cNvPr id="838" name="Rounded Rectangle 15"/>
            <p:cNvSpPr/>
            <p:nvPr/>
          </p:nvSpPr>
          <p:spPr>
            <a:xfrm>
              <a:off x="2362320" y="1687320"/>
              <a:ext cx="1212840" cy="8240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Standards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9" name="Picture 88" descr="tools.png"/>
            <p:cNvPicPr/>
            <p:nvPr/>
          </p:nvPicPr>
          <p:blipFill>
            <a:blip r:embed="rId4"/>
            <a:stretch/>
          </p:blipFill>
          <p:spPr>
            <a:xfrm>
              <a:off x="2784960" y="1587600"/>
              <a:ext cx="390240" cy="40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Group 102"/>
          <p:cNvGrpSpPr/>
          <p:nvPr/>
        </p:nvGrpSpPr>
        <p:grpSpPr>
          <a:xfrm>
            <a:off x="7296120" y="2801880"/>
            <a:ext cx="1212840" cy="932040"/>
            <a:chOff x="7296120" y="2801880"/>
            <a:chExt cx="1212840" cy="932040"/>
          </a:xfrm>
        </p:grpSpPr>
        <p:sp>
          <p:nvSpPr>
            <p:cNvPr id="841" name="Rounded Rectangle 14"/>
            <p:cNvSpPr/>
            <p:nvPr/>
          </p:nvSpPr>
          <p:spPr>
            <a:xfrm>
              <a:off x="7296120" y="291132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Certification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and Tes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Picture 89" descr="computer.png"/>
            <p:cNvPicPr/>
            <p:nvPr/>
          </p:nvPicPr>
          <p:blipFill>
            <a:blip r:embed="rId5"/>
            <a:stretch/>
          </p:blipFill>
          <p:spPr>
            <a:xfrm>
              <a:off x="7688160" y="2801880"/>
              <a:ext cx="4446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Group 99"/>
          <p:cNvGrpSpPr/>
          <p:nvPr/>
        </p:nvGrpSpPr>
        <p:grpSpPr>
          <a:xfrm>
            <a:off x="2260440" y="2846520"/>
            <a:ext cx="1447920" cy="887400"/>
            <a:chOff x="2260440" y="2846520"/>
            <a:chExt cx="1447920" cy="887400"/>
          </a:xfrm>
        </p:grpSpPr>
        <p:sp>
          <p:nvSpPr>
            <p:cNvPr id="844" name="Rounded Rectangle 11"/>
            <p:cNvSpPr/>
            <p:nvPr/>
          </p:nvSpPr>
          <p:spPr>
            <a:xfrm>
              <a:off x="2260440" y="2911320"/>
              <a:ext cx="144792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Harmonization of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Core Concepts (NIEM framework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90" descr="harmonize.png"/>
            <p:cNvPicPr/>
            <p:nvPr/>
          </p:nvPicPr>
          <p:blipFill>
            <a:blip r:embed="rId6"/>
            <a:stretch/>
          </p:blipFill>
          <p:spPr>
            <a:xfrm>
              <a:off x="2737440" y="2846520"/>
              <a:ext cx="47736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Group 100"/>
          <p:cNvGrpSpPr/>
          <p:nvPr/>
        </p:nvGrpSpPr>
        <p:grpSpPr>
          <a:xfrm>
            <a:off x="4032360" y="2881440"/>
            <a:ext cx="1212840" cy="852480"/>
            <a:chOff x="4032360" y="2881440"/>
            <a:chExt cx="1212840" cy="852480"/>
          </a:xfrm>
        </p:grpSpPr>
        <p:sp>
          <p:nvSpPr>
            <p:cNvPr id="847" name="Rounded Rectangle 12"/>
            <p:cNvSpPr/>
            <p:nvPr/>
          </p:nvSpPr>
          <p:spPr>
            <a:xfrm>
              <a:off x="4032360" y="291132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Implementation Specif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8" name="Picture 91" descr="Screen shot 2010-03-10 at 2.04.54 PM.png"/>
            <p:cNvPicPr/>
            <p:nvPr/>
          </p:nvPicPr>
          <p:blipFill>
            <a:blip r:embed="rId7"/>
            <a:stretch/>
          </p:blipFill>
          <p:spPr>
            <a:xfrm>
              <a:off x="4434480" y="2881440"/>
              <a:ext cx="392400" cy="31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9" name="Group 98"/>
          <p:cNvGrpSpPr/>
          <p:nvPr/>
        </p:nvGrpSpPr>
        <p:grpSpPr>
          <a:xfrm>
            <a:off x="5578560" y="1541520"/>
            <a:ext cx="1406520" cy="969840"/>
            <a:chOff x="5578560" y="1541520"/>
            <a:chExt cx="1406520" cy="969840"/>
          </a:xfrm>
        </p:grpSpPr>
        <p:sp>
          <p:nvSpPr>
            <p:cNvPr id="850" name="Rounded Rectangle 16"/>
            <p:cNvSpPr/>
            <p:nvPr/>
          </p:nvSpPr>
          <p:spPr>
            <a:xfrm>
              <a:off x="5578560" y="1687320"/>
              <a:ext cx="1406520" cy="8240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Pilot Demonstration 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1" name="Picture 93" descr="pilot.png"/>
            <p:cNvPicPr/>
            <p:nvPr/>
          </p:nvPicPr>
          <p:blipFill>
            <a:blip r:embed="rId8"/>
            <a:stretch/>
          </p:blipFill>
          <p:spPr>
            <a:xfrm>
              <a:off x="6063480" y="1541520"/>
              <a:ext cx="476280" cy="47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2" name="Group 101"/>
          <p:cNvGrpSpPr/>
          <p:nvPr/>
        </p:nvGrpSpPr>
        <p:grpSpPr>
          <a:xfrm>
            <a:off x="5675400" y="2870280"/>
            <a:ext cx="1212840" cy="863640"/>
            <a:chOff x="5675400" y="2870280"/>
            <a:chExt cx="1212840" cy="863640"/>
          </a:xfrm>
        </p:grpSpPr>
        <p:sp>
          <p:nvSpPr>
            <p:cNvPr id="853" name="Rounded Rectangle 13"/>
            <p:cNvSpPr/>
            <p:nvPr/>
          </p:nvSpPr>
          <p:spPr>
            <a:xfrm>
              <a:off x="5675400" y="291132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Reference Implemen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4" name="Picture 94" descr="check.png"/>
            <p:cNvPicPr/>
            <p:nvPr/>
          </p:nvPicPr>
          <p:blipFill>
            <a:blip r:embed="rId9"/>
            <a:stretch/>
          </p:blipFill>
          <p:spPr>
            <a:xfrm>
              <a:off x="6121080" y="2870280"/>
              <a:ext cx="327600" cy="32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5" name="Picture 51" descr="Document.png"/>
          <p:cNvPicPr/>
          <p:nvPr/>
        </p:nvPicPr>
        <p:blipFill>
          <a:blip r:embed="rId10"/>
          <a:stretch/>
        </p:blipFill>
        <p:spPr>
          <a:xfrm>
            <a:off x="2057400" y="3886200"/>
            <a:ext cx="193680" cy="2430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8" descr="Screen shot 2010-03-10 at 1.42.30 PM.png"/>
          <p:cNvPicPr/>
          <p:nvPr/>
        </p:nvPicPr>
        <p:blipFill>
          <a:blip r:embed="rId11"/>
          <a:stretch/>
        </p:blipFill>
        <p:spPr>
          <a:xfrm>
            <a:off x="4038480" y="3803760"/>
            <a:ext cx="198720" cy="2793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9" descr="Screen shot 2010-03-10 at 1.42.19 PM.png"/>
          <p:cNvPicPr/>
          <p:nvPr/>
        </p:nvPicPr>
        <p:blipFill>
          <a:blip r:embed="rId12"/>
          <a:stretch/>
        </p:blipFill>
        <p:spPr>
          <a:xfrm>
            <a:off x="3446640" y="3813120"/>
            <a:ext cx="177480" cy="270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54" descr="Document.png"/>
          <p:cNvPicPr/>
          <p:nvPr/>
        </p:nvPicPr>
        <p:blipFill>
          <a:blip r:embed="rId13"/>
          <a:stretch/>
        </p:blipFill>
        <p:spPr>
          <a:xfrm>
            <a:off x="3733920" y="3886200"/>
            <a:ext cx="193680" cy="2430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8" descr="Screen shot 2010-03-10 at 1.42.30 PM.png"/>
          <p:cNvPicPr/>
          <p:nvPr/>
        </p:nvPicPr>
        <p:blipFill>
          <a:blip r:embed="rId14"/>
          <a:stretch/>
        </p:blipFill>
        <p:spPr>
          <a:xfrm>
            <a:off x="5715000" y="3803760"/>
            <a:ext cx="198360" cy="27936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69" descr="Screen shot 2010-03-10 at 1.42.19 PM.png"/>
          <p:cNvPicPr/>
          <p:nvPr/>
        </p:nvPicPr>
        <p:blipFill>
          <a:blip r:embed="rId15"/>
          <a:stretch/>
        </p:blipFill>
        <p:spPr>
          <a:xfrm>
            <a:off x="5122800" y="3813120"/>
            <a:ext cx="177840" cy="2700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57" descr="Document.png"/>
          <p:cNvPicPr/>
          <p:nvPr/>
        </p:nvPicPr>
        <p:blipFill>
          <a:blip r:embed="rId16"/>
          <a:stretch/>
        </p:blipFill>
        <p:spPr>
          <a:xfrm>
            <a:off x="5410080" y="3886200"/>
            <a:ext cx="193680" cy="24300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68" descr="Screen shot 2010-03-10 at 1.42.30 PM.png"/>
          <p:cNvPicPr/>
          <p:nvPr/>
        </p:nvPicPr>
        <p:blipFill>
          <a:blip r:embed="rId17"/>
          <a:stretch/>
        </p:blipFill>
        <p:spPr>
          <a:xfrm>
            <a:off x="7327800" y="3803760"/>
            <a:ext cx="198360" cy="2793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69" descr="Screen shot 2010-03-10 at 1.42.19 PM.png"/>
          <p:cNvPicPr/>
          <p:nvPr/>
        </p:nvPicPr>
        <p:blipFill>
          <a:blip r:embed="rId18"/>
          <a:stretch/>
        </p:blipFill>
        <p:spPr>
          <a:xfrm>
            <a:off x="6735600" y="3813120"/>
            <a:ext cx="177840" cy="2700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60" descr="Document.png"/>
          <p:cNvPicPr/>
          <p:nvPr/>
        </p:nvPicPr>
        <p:blipFill>
          <a:blip r:embed="rId19"/>
          <a:stretch/>
        </p:blipFill>
        <p:spPr>
          <a:xfrm>
            <a:off x="7023240" y="3886200"/>
            <a:ext cx="193680" cy="2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ons learned from HITS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99520" y="1344600"/>
            <a:ext cx="8494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andards are not imposed, they are adopted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To improve adoption, solve real problems, not abstract on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Engage the community for a sense of ownership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andards should be harmonized and commissioned based on clearly articulated prioriti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Governance is necessary to coordinate and prioritiz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Adoption is accelerated by tools including vocabulary registries and easy to use sources for implementation guidance.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Tools improve adop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Make implementation specifications easy to use and, well, </a:t>
            </a:r>
            <a:r>
              <a:rPr b="0" i="1" lang="en-US" sz="1900" spc="-1" strike="noStrike">
                <a:solidFill>
                  <a:srgbClr val="19234a"/>
                </a:solidFill>
                <a:latin typeface="Arial"/>
              </a:rPr>
              <a:t>specific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Keep it as a simple as possible but no simpler - the parsimony principl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on’t boil the ocea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olve real focused, problem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Perfection is the enemy of the good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Iteratively improv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593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64B0C-8054-49E2-BE38-F0C1116044E8}" type="datetime">
              <a:rPr b="0" lang="en-US" sz="8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ing the work of HITS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99520" y="1186920"/>
            <a:ext cx="849492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Move toward more “computational” implementation specifications (IS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calable proces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Ability to develop tools to increase the efficiency of IS development and maintenanc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The importance of developing IS that are explicit and subject to less interpret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Link use cases and standards from inception to certific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Keep the certification processes tightly linked to the standards and IS proces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upport tool development for certification testing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evelop the testing for compliance at the same time as developing the standards and I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Integrate multiple SDOs with different expertise across the proces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Transport packag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Vocabulary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Value set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ecurity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593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3FAFB-46D1-40E0-9928-04A21D99A59F}" type="datetime">
              <a:rPr b="0" lang="en-US" sz="8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Rectangle 39"/>
          <p:cNvGrpSpPr/>
          <p:nvPr/>
        </p:nvGrpSpPr>
        <p:grpSpPr>
          <a:xfrm>
            <a:off x="3103560" y="3809880"/>
            <a:ext cx="1523880" cy="1212840"/>
            <a:chOff x="3103560" y="3809880"/>
            <a:chExt cx="1523880" cy="1212840"/>
          </a:xfrm>
        </p:grpSpPr>
        <p:pic>
          <p:nvPicPr>
            <p:cNvPr id="363" name="Rectangle 39" descr=""/>
            <p:cNvPicPr/>
            <p:nvPr/>
          </p:nvPicPr>
          <p:blipFill>
            <a:blip r:embed="rId1"/>
            <a:stretch/>
          </p:blipFill>
          <p:spPr>
            <a:xfrm>
              <a:off x="3103560" y="3809880"/>
              <a:ext cx="1523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129120" y="3836880"/>
              <a:ext cx="14731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ectangle 38"/>
          <p:cNvGrpSpPr/>
          <p:nvPr/>
        </p:nvGrpSpPr>
        <p:grpSpPr>
          <a:xfrm>
            <a:off x="1573200" y="2567160"/>
            <a:ext cx="1523880" cy="1212840"/>
            <a:chOff x="1573200" y="2567160"/>
            <a:chExt cx="1523880" cy="1212840"/>
          </a:xfrm>
        </p:grpSpPr>
        <p:pic>
          <p:nvPicPr>
            <p:cNvPr id="366" name="Rectangle 38" descr=""/>
            <p:cNvPicPr/>
            <p:nvPr/>
          </p:nvPicPr>
          <p:blipFill>
            <a:blip r:embed="rId2"/>
            <a:stretch/>
          </p:blipFill>
          <p:spPr>
            <a:xfrm>
              <a:off x="1573200" y="2567160"/>
              <a:ext cx="1523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595520" y="2592360"/>
              <a:ext cx="14731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ounded Rectangle 31"/>
          <p:cNvSpPr/>
          <p:nvPr/>
        </p:nvSpPr>
        <p:spPr>
          <a:xfrm>
            <a:off x="5559480" y="2405160"/>
            <a:ext cx="3178080" cy="3276360"/>
          </a:xfrm>
          <a:custGeom>
            <a:avLst/>
            <a:gdLst>
              <a:gd name="textAreaLeft" fmla="*/ 36000 w 3178080"/>
              <a:gd name="textAreaRight" fmla="*/ 3142080 w 3178080"/>
              <a:gd name="textAreaTop" fmla="*/ 36000 h 3276360"/>
              <a:gd name="textAreaBottom" fmla="*/ 3240360 h 3276360"/>
            </a:gdLst>
            <a:ahLst/>
            <a:rect l="textAreaLeft" t="textAreaTop" r="textAreaRight" b="textAreaBottom"/>
            <a:pathLst>
              <a:path w="21600" h="22268">
                <a:moveTo>
                  <a:pt x="838" y="0"/>
                </a:moveTo>
                <a:arcTo wR="838" hR="838" stAng="16200000" swAng="-5400000"/>
                <a:lnTo>
                  <a:pt x="0" y="21430"/>
                </a:lnTo>
                <a:arcTo wR="838" hR="838" stAng="10800000" swAng="-5400000"/>
                <a:lnTo>
                  <a:pt x="20762" y="22268"/>
                </a:lnTo>
                <a:arcTo wR="838" hR="838" stAng="5400000" swAng="-5400000"/>
                <a:lnTo>
                  <a:pt x="21600" y="838"/>
                </a:lnTo>
                <a:arcTo wR="838" hR="838" stAng="0" swAng="-5400000"/>
                <a:close/>
              </a:path>
            </a:pathLst>
          </a:custGeom>
          <a:gradFill rotWithShape="0">
            <a:gsLst>
              <a:gs pos="0">
                <a:srgbClr val="cfe1e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Rectangle 23"/>
          <p:cNvGrpSpPr/>
          <p:nvPr/>
        </p:nvGrpSpPr>
        <p:grpSpPr>
          <a:xfrm>
            <a:off x="3322800" y="2359080"/>
            <a:ext cx="1511280" cy="1201680"/>
            <a:chOff x="3322800" y="2359080"/>
            <a:chExt cx="1511280" cy="1201680"/>
          </a:xfrm>
        </p:grpSpPr>
        <p:pic>
          <p:nvPicPr>
            <p:cNvPr id="370" name="Rectangle 23" descr=""/>
            <p:cNvPicPr/>
            <p:nvPr/>
          </p:nvPicPr>
          <p:blipFill>
            <a:blip r:embed="rId3"/>
            <a:stretch/>
          </p:blipFill>
          <p:spPr>
            <a:xfrm>
              <a:off x="3322800" y="2359080"/>
              <a:ext cx="15112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340080" y="2379600"/>
              <a:ext cx="14731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Rectangle 25"/>
          <p:cNvGrpSpPr/>
          <p:nvPr/>
        </p:nvGrpSpPr>
        <p:grpSpPr>
          <a:xfrm>
            <a:off x="1573200" y="3809880"/>
            <a:ext cx="1523880" cy="1212840"/>
            <a:chOff x="1573200" y="3809880"/>
            <a:chExt cx="1523880" cy="1212840"/>
          </a:xfrm>
        </p:grpSpPr>
        <p:pic>
          <p:nvPicPr>
            <p:cNvPr id="373" name="Rectangle 25" descr=""/>
            <p:cNvPicPr/>
            <p:nvPr/>
          </p:nvPicPr>
          <p:blipFill>
            <a:blip r:embed="rId4"/>
            <a:stretch/>
          </p:blipFill>
          <p:spPr>
            <a:xfrm>
              <a:off x="1573200" y="3809880"/>
              <a:ext cx="1523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595520" y="3836880"/>
              <a:ext cx="14731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ttom up use case development within a top-down coordination frame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9477E-9706-4F8B-8680-C3156EB7471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99520" y="1251000"/>
            <a:ext cx="849492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e2026"/>
                </a:solidFill>
                <a:latin typeface="Arial"/>
              </a:rPr>
              <a:t>NHIN Direct </a:t>
            </a:r>
            <a:r>
              <a:rPr b="1" lang="en-US" sz="2000" spc="-1" strike="noStrike">
                <a:solidFill>
                  <a:srgbClr val="246aa2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ae2026"/>
                </a:solidFill>
                <a:latin typeface="Arial"/>
              </a:rPr>
              <a:t> Interoperability Framework </a:t>
            </a:r>
            <a:r>
              <a:rPr b="0" lang="en-US" sz="2000" spc="-1" strike="noStrike">
                <a:solidFill>
                  <a:srgbClr val="246aa2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19234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9234a"/>
                </a:solidFill>
                <a:latin typeface="Arial"/>
              </a:rPr>
              <a:t>Focused Collaboration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5559480" y="2535120"/>
            <a:ext cx="308304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246aa2"/>
                </a:solidFill>
                <a:latin typeface="Arial"/>
              </a:rPr>
              <a:t>CORE PRINCIP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17254b"/>
                </a:solidFill>
                <a:latin typeface="Arial"/>
              </a:rPr>
              <a:t>Priorit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17254b"/>
                </a:solidFill>
                <a:latin typeface="Arial"/>
              </a:rPr>
              <a:t>Transpar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17254b"/>
                </a:solidFill>
                <a:latin typeface="Arial"/>
              </a:rPr>
              <a:t>Eng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17254b"/>
                </a:solidFill>
                <a:latin typeface="Arial"/>
              </a:rPr>
              <a:t>Rapid Resul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3340080" y="2700360"/>
            <a:ext cx="147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8c4d19"/>
                </a:solidFill>
                <a:latin typeface="Arial"/>
              </a:rPr>
              <a:t>Foc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8c4d19"/>
                </a:solidFill>
                <a:latin typeface="Arial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3129120" y="4192560"/>
            <a:ext cx="147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3a6269"/>
                </a:solidFill>
                <a:latin typeface="Arial"/>
              </a:rPr>
              <a:t>A Thousand Flowers Bl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95520" y="2863800"/>
            <a:ext cx="147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46aa2"/>
                </a:solidFill>
                <a:latin typeface="Arial"/>
              </a:rPr>
              <a:t>Command</a:t>
            </a:r>
            <a:br>
              <a:rPr sz="1400"/>
            </a:br>
            <a:r>
              <a:rPr b="1" lang="en-US" sz="1400" spc="-1" strike="noStrike">
                <a:solidFill>
                  <a:srgbClr val="246aa2"/>
                </a:solidFill>
                <a:latin typeface="Arial"/>
              </a:rPr>
              <a:t>an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46"/>
          <p:cNvGrpSpPr/>
          <p:nvPr/>
        </p:nvGrpSpPr>
        <p:grpSpPr>
          <a:xfrm>
            <a:off x="1106640" y="5048280"/>
            <a:ext cx="4105080" cy="291960"/>
            <a:chOff x="1106640" y="5048280"/>
            <a:chExt cx="4105080" cy="291960"/>
          </a:xfrm>
        </p:grpSpPr>
        <p:grpSp>
          <p:nvGrpSpPr>
            <p:cNvPr id="383" name="Pentagon 32"/>
            <p:cNvGrpSpPr/>
            <p:nvPr/>
          </p:nvGrpSpPr>
          <p:grpSpPr>
            <a:xfrm>
              <a:off x="1578960" y="5053320"/>
              <a:ext cx="3273480" cy="286920"/>
              <a:chOff x="1578960" y="5053320"/>
              <a:chExt cx="3273480" cy="286920"/>
            </a:xfrm>
          </p:grpSpPr>
          <p:pic>
            <p:nvPicPr>
              <p:cNvPr id="384" name="Pentagon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578960" y="5053320"/>
                <a:ext cx="327348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1589040" y="5067360"/>
                <a:ext cx="318348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Box 16"/>
            <p:cNvSpPr/>
            <p:nvPr/>
          </p:nvSpPr>
          <p:spPr>
            <a:xfrm>
              <a:off x="1106640" y="5048280"/>
              <a:ext cx="1472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7f7f7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17"/>
            <p:cNvSpPr/>
            <p:nvPr/>
          </p:nvSpPr>
          <p:spPr>
            <a:xfrm>
              <a:off x="3738600" y="5048280"/>
              <a:ext cx="1473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8c4d19"/>
                  </a:solidFill>
                  <a:latin typeface="Arial"/>
                </a:rPr>
                <a:t>Hig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18"/>
          <p:cNvSpPr/>
          <p:nvPr/>
        </p:nvSpPr>
        <p:spPr>
          <a:xfrm>
            <a:off x="2482920" y="5580000"/>
            <a:ext cx="19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e2026"/>
                </a:solidFill>
                <a:latin typeface="Arial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5"/>
          <p:cNvGrpSpPr/>
          <p:nvPr/>
        </p:nvGrpSpPr>
        <p:grpSpPr>
          <a:xfrm>
            <a:off x="2451240" y="3093840"/>
            <a:ext cx="1370160" cy="1348200"/>
            <a:chOff x="2451240" y="3093840"/>
            <a:chExt cx="1370160" cy="1348200"/>
          </a:xfrm>
        </p:grpSpPr>
        <p:sp>
          <p:nvSpPr>
            <p:cNvPr id="390" name="Left-Right Arrow 40"/>
            <p:cNvSpPr/>
            <p:nvPr/>
          </p:nvSpPr>
          <p:spPr>
            <a:xfrm rot="2700000">
              <a:off x="2532600" y="3408840"/>
              <a:ext cx="1189080" cy="717480"/>
            </a:xfrm>
            <a:prstGeom prst="leftRightArrow">
              <a:avLst>
                <a:gd name="adj1" fmla="val 51667"/>
                <a:gd name="adj2" fmla="val 51653"/>
              </a:avLst>
            </a:prstGeom>
            <a:gradFill rotWithShape="0">
              <a:gsLst>
                <a:gs pos="0">
                  <a:srgbClr val="571013"/>
                </a:gs>
                <a:gs pos="100000">
                  <a:srgbClr val="c30b13"/>
                </a:gs>
              </a:gsLst>
              <a:lin ang="2700000"/>
            </a:gradFill>
            <a:ln w="9360">
              <a:solidFill>
                <a:srgbClr val="ad1c22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21"/>
            <p:cNvSpPr/>
            <p:nvPr/>
          </p:nvSpPr>
          <p:spPr>
            <a:xfrm rot="2517000">
              <a:off x="2399760" y="3568320"/>
              <a:ext cx="14731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Class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rade-Of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Straight Connector 28"/>
          <p:cNvSpPr/>
          <p:nvPr/>
        </p:nvSpPr>
        <p:spPr>
          <a:xfrm>
            <a:off x="5859360" y="3689280"/>
            <a:ext cx="2590920" cy="1800"/>
          </a:xfrm>
          <a:prstGeom prst="line">
            <a:avLst/>
          </a:prstGeom>
          <a:ln w="5040">
            <a:solidFill>
              <a:srgbClr val="2068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29"/>
          <p:cNvSpPr/>
          <p:nvPr/>
        </p:nvSpPr>
        <p:spPr>
          <a:xfrm>
            <a:off x="5859360" y="4309920"/>
            <a:ext cx="2590920" cy="1800"/>
          </a:xfrm>
          <a:prstGeom prst="line">
            <a:avLst/>
          </a:prstGeom>
          <a:ln w="5040">
            <a:solidFill>
              <a:srgbClr val="2068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30"/>
          <p:cNvSpPr/>
          <p:nvPr/>
        </p:nvSpPr>
        <p:spPr>
          <a:xfrm>
            <a:off x="5859360" y="4944960"/>
            <a:ext cx="2590920" cy="1800"/>
          </a:xfrm>
          <a:prstGeom prst="line">
            <a:avLst/>
          </a:prstGeom>
          <a:ln w="5040">
            <a:solidFill>
              <a:srgbClr val="2068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7"/>
          <p:cNvGrpSpPr/>
          <p:nvPr/>
        </p:nvGrpSpPr>
        <p:grpSpPr>
          <a:xfrm>
            <a:off x="1238400" y="1716120"/>
            <a:ext cx="299520" cy="4106880"/>
            <a:chOff x="1238400" y="1716120"/>
            <a:chExt cx="299520" cy="4106880"/>
          </a:xfrm>
        </p:grpSpPr>
        <p:grpSp>
          <p:nvGrpSpPr>
            <p:cNvPr id="396" name="Pentagon 34"/>
            <p:cNvGrpSpPr/>
            <p:nvPr/>
          </p:nvGrpSpPr>
          <p:grpSpPr>
            <a:xfrm>
              <a:off x="1251000" y="2077200"/>
              <a:ext cx="279360" cy="3261240"/>
              <a:chOff x="1251000" y="2077200"/>
              <a:chExt cx="279360" cy="3261240"/>
            </a:xfrm>
          </p:grpSpPr>
          <p:pic>
            <p:nvPicPr>
              <p:cNvPr id="397" name="Pentagon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51000" y="2077200"/>
                <a:ext cx="279360" cy="326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 rot="16200000">
                <a:off x="-193680" y="3612240"/>
                <a:ext cx="31730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Box 35"/>
            <p:cNvSpPr/>
            <p:nvPr/>
          </p:nvSpPr>
          <p:spPr>
            <a:xfrm rot="16200000">
              <a:off x="650520" y="4943160"/>
              <a:ext cx="1467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7f7f7f"/>
                  </a:solidFill>
                  <a:latin typeface="Arial"/>
                </a:rPr>
                <a:t>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36"/>
            <p:cNvSpPr/>
            <p:nvPr/>
          </p:nvSpPr>
          <p:spPr>
            <a:xfrm rot="16200000">
              <a:off x="658080" y="2304000"/>
              <a:ext cx="146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8c4d19"/>
                  </a:solidFill>
                  <a:latin typeface="Arial"/>
                </a:rPr>
                <a:t>Hig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Box 19"/>
          <p:cNvSpPr/>
          <p:nvPr/>
        </p:nvSpPr>
        <p:spPr>
          <a:xfrm>
            <a:off x="9360" y="3548160"/>
            <a:ext cx="14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e2026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1" descr="iStock_000004312672XSmall_magnifyingglass.jpg"/>
          <p:cNvPicPr/>
          <p:nvPr/>
        </p:nvPicPr>
        <p:blipFill>
          <a:blip r:embed="rId7"/>
          <a:srcRect l="14525" t="16648" r="8300" b="29133"/>
          <a:stretch/>
        </p:blipFill>
        <p:spPr>
          <a:xfrm>
            <a:off x="353880" y="3938760"/>
            <a:ext cx="797040" cy="556920"/>
          </a:xfrm>
          <a:prstGeom prst="rect">
            <a:avLst/>
          </a:prstGeom>
          <a:ln w="9360">
            <a:solidFill>
              <a:srgbClr val="a6a8a3"/>
            </a:solidFill>
            <a:miter/>
          </a:ln>
        </p:spPr>
      </p:pic>
      <p:pic>
        <p:nvPicPr>
          <p:cNvPr id="403" name="Picture 43" descr="iStock_000007699915XSmall_hands_team_collaboration.jpg"/>
          <p:cNvPicPr/>
          <p:nvPr/>
        </p:nvPicPr>
        <p:blipFill>
          <a:blip r:embed="rId8"/>
          <a:stretch/>
        </p:blipFill>
        <p:spPr>
          <a:xfrm>
            <a:off x="1851120" y="5487840"/>
            <a:ext cx="784080" cy="524160"/>
          </a:xfrm>
          <a:prstGeom prst="rect">
            <a:avLst/>
          </a:prstGeom>
          <a:ln w="9360">
            <a:solidFill>
              <a:srgbClr val="a6a8a3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75409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ttom Up Innovation within a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rdination Frame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5" name="Straight Arrow Connector 4"/>
          <p:cNvCxnSpPr/>
          <p:nvPr/>
        </p:nvCxnSpPr>
        <p:spPr>
          <a:xfrm>
            <a:off x="2011320" y="3731760"/>
            <a:ext cx="249840" cy="25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406" name="Straight Arrow Connector 5"/>
          <p:cNvCxnSpPr/>
          <p:nvPr/>
        </p:nvCxnSpPr>
        <p:spPr>
          <a:xfrm>
            <a:off x="3708360" y="3731760"/>
            <a:ext cx="324720" cy="25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407" name="Straight Arrow Connector 6"/>
          <p:cNvCxnSpPr/>
          <p:nvPr/>
        </p:nvCxnSpPr>
        <p:spPr>
          <a:xfrm>
            <a:off x="5244840" y="3731760"/>
            <a:ext cx="430920" cy="25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408" name="Straight Arrow Connector 7"/>
          <p:cNvCxnSpPr/>
          <p:nvPr/>
        </p:nvCxnSpPr>
        <p:spPr>
          <a:xfrm>
            <a:off x="6887880" y="3731760"/>
            <a:ext cx="408600" cy="25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tailEnd len="med" type="arrow" w="med"/>
          </a:ln>
        </p:spPr>
      </p:cxnSp>
      <p:cxnSp>
        <p:nvCxnSpPr>
          <p:cNvPr id="409" name="Straight Arrow Connector 8"/>
          <p:cNvCxnSpPr/>
          <p:nvPr/>
        </p:nvCxnSpPr>
        <p:spPr>
          <a:xfrm flipH="1">
            <a:off x="2980440" y="2922120"/>
            <a:ext cx="2520" cy="30672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10" name="Straight Arrow Connector 9"/>
          <p:cNvCxnSpPr/>
          <p:nvPr/>
        </p:nvCxnSpPr>
        <p:spPr>
          <a:xfrm flipH="1">
            <a:off x="6284160" y="2922480"/>
            <a:ext cx="3960" cy="357840"/>
          </a:xfrm>
          <a:prstGeom prst="straightConnector1">
            <a:avLst/>
          </a:prstGeom>
          <a:ln w="25560">
            <a:solidFill>
              <a:srgbClr val="ae2026"/>
            </a:solidFill>
            <a:miter/>
            <a:headEnd len="med" type="arrow" w="med"/>
            <a:tailEnd len="med" type="arrow" w="med"/>
          </a:ln>
        </p:spPr>
      </p:cxnSp>
      <p:sp>
        <p:nvSpPr>
          <p:cNvPr id="411" name="Rounded Rectangle 17"/>
          <p:cNvSpPr/>
          <p:nvPr/>
        </p:nvSpPr>
        <p:spPr>
          <a:xfrm>
            <a:off x="757080" y="4702320"/>
            <a:ext cx="76392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1000"/>
            </a:br>
            <a:r>
              <a:rPr b="1" lang="en-US" sz="10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55"/>
          <p:cNvGrpSpPr/>
          <p:nvPr/>
        </p:nvGrpSpPr>
        <p:grpSpPr>
          <a:xfrm>
            <a:off x="1280160" y="4143240"/>
            <a:ext cx="6624000" cy="525960"/>
            <a:chOff x="1280160" y="4143240"/>
            <a:chExt cx="6624000" cy="525960"/>
          </a:xfrm>
        </p:grpSpPr>
        <p:cxnSp>
          <p:nvCxnSpPr>
            <p:cNvPr id="413" name="Straight Arrow Connector 18"/>
            <p:cNvCxnSpPr/>
            <p:nvPr/>
          </p:nvCxnSpPr>
          <p:spPr>
            <a:xfrm flipH="1">
              <a:off x="4638240" y="4143240"/>
              <a:ext cx="2160" cy="52632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14" name="Straight Arrow Connector 19"/>
            <p:cNvCxnSpPr/>
            <p:nvPr/>
          </p:nvCxnSpPr>
          <p:spPr>
            <a:xfrm>
              <a:off x="1280160" y="4143240"/>
              <a:ext cx="1080" cy="52488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15" name="Straight Arrow Connector 20"/>
            <p:cNvCxnSpPr/>
            <p:nvPr/>
          </p:nvCxnSpPr>
          <p:spPr>
            <a:xfrm flipH="1">
              <a:off x="2979360" y="4143240"/>
              <a:ext cx="2160" cy="52632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16" name="Straight Arrow Connector 21"/>
            <p:cNvCxnSpPr/>
            <p:nvPr/>
          </p:nvCxnSpPr>
          <p:spPr>
            <a:xfrm>
              <a:off x="6287040" y="4143240"/>
              <a:ext cx="1080" cy="52488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17" name="Straight Arrow Connector 22"/>
            <p:cNvCxnSpPr/>
            <p:nvPr/>
          </p:nvCxnSpPr>
          <p:spPr>
            <a:xfrm flipH="1">
              <a:off x="7900920" y="4143240"/>
              <a:ext cx="3600" cy="526320"/>
            </a:xfrm>
            <a:prstGeom prst="straightConnector1">
              <a:avLst/>
            </a:prstGeom>
            <a:ln w="25560">
              <a:solidFill>
                <a:srgbClr val="246aa2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418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6D51B-8E33-46AA-A521-FF2A892544B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96"/>
          <p:cNvGrpSpPr/>
          <p:nvPr/>
        </p:nvGrpSpPr>
        <p:grpSpPr>
          <a:xfrm>
            <a:off x="507960" y="3160800"/>
            <a:ext cx="1503360" cy="982440"/>
            <a:chOff x="507960" y="3160800"/>
            <a:chExt cx="1503360" cy="982440"/>
          </a:xfrm>
        </p:grpSpPr>
        <p:sp>
          <p:nvSpPr>
            <p:cNvPr id="420" name="Rounded Rectangle 10"/>
            <p:cNvSpPr/>
            <p:nvPr/>
          </p:nvSpPr>
          <p:spPr>
            <a:xfrm>
              <a:off x="507960" y="3321000"/>
              <a:ext cx="1503360" cy="822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Use Case Development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and Functional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Picture 87" descr="folder.png"/>
            <p:cNvPicPr/>
            <p:nvPr/>
          </p:nvPicPr>
          <p:blipFill>
            <a:blip r:embed="rId1"/>
            <a:stretch/>
          </p:blipFill>
          <p:spPr>
            <a:xfrm>
              <a:off x="1023480" y="3160800"/>
              <a:ext cx="44712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7"/>
          <p:cNvGrpSpPr/>
          <p:nvPr/>
        </p:nvGrpSpPr>
        <p:grpSpPr>
          <a:xfrm>
            <a:off x="2362320" y="1996920"/>
            <a:ext cx="1212840" cy="924120"/>
            <a:chOff x="2362320" y="1996920"/>
            <a:chExt cx="1212840" cy="924120"/>
          </a:xfrm>
        </p:grpSpPr>
        <p:sp>
          <p:nvSpPr>
            <p:cNvPr id="423" name="Rounded Rectangle 15"/>
            <p:cNvSpPr/>
            <p:nvPr/>
          </p:nvSpPr>
          <p:spPr>
            <a:xfrm>
              <a:off x="2362320" y="2096640"/>
              <a:ext cx="1212840" cy="8244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Standards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88" descr="tools.png"/>
            <p:cNvPicPr/>
            <p:nvPr/>
          </p:nvPicPr>
          <p:blipFill>
            <a:blip r:embed="rId2"/>
            <a:stretch/>
          </p:blipFill>
          <p:spPr>
            <a:xfrm>
              <a:off x="2784960" y="1996920"/>
              <a:ext cx="39024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102"/>
          <p:cNvGrpSpPr/>
          <p:nvPr/>
        </p:nvGrpSpPr>
        <p:grpSpPr>
          <a:xfrm>
            <a:off x="7296120" y="3211560"/>
            <a:ext cx="1212840" cy="931680"/>
            <a:chOff x="7296120" y="3211560"/>
            <a:chExt cx="1212840" cy="931680"/>
          </a:xfrm>
        </p:grpSpPr>
        <p:sp>
          <p:nvSpPr>
            <p:cNvPr id="426" name="Rounded Rectangle 14"/>
            <p:cNvSpPr/>
            <p:nvPr/>
          </p:nvSpPr>
          <p:spPr>
            <a:xfrm>
              <a:off x="7296120" y="3321000"/>
              <a:ext cx="1212840" cy="822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Certification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and Tes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89" descr="computer.png"/>
            <p:cNvPicPr/>
            <p:nvPr/>
          </p:nvPicPr>
          <p:blipFill>
            <a:blip r:embed="rId3"/>
            <a:stretch/>
          </p:blipFill>
          <p:spPr>
            <a:xfrm>
              <a:off x="7688160" y="3211560"/>
              <a:ext cx="444600" cy="3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99"/>
          <p:cNvGrpSpPr/>
          <p:nvPr/>
        </p:nvGrpSpPr>
        <p:grpSpPr>
          <a:xfrm>
            <a:off x="2260440" y="3255840"/>
            <a:ext cx="1447920" cy="887400"/>
            <a:chOff x="2260440" y="3255840"/>
            <a:chExt cx="1447920" cy="887400"/>
          </a:xfrm>
        </p:grpSpPr>
        <p:sp>
          <p:nvSpPr>
            <p:cNvPr id="429" name="Rounded Rectangle 11"/>
            <p:cNvSpPr/>
            <p:nvPr/>
          </p:nvSpPr>
          <p:spPr>
            <a:xfrm>
              <a:off x="2260440" y="3320640"/>
              <a:ext cx="144792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Harmonization of</a:t>
              </a: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Core Concepts (NIEM framework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90" descr="harmonize.png"/>
            <p:cNvPicPr/>
            <p:nvPr/>
          </p:nvPicPr>
          <p:blipFill>
            <a:blip r:embed="rId4"/>
            <a:stretch/>
          </p:blipFill>
          <p:spPr>
            <a:xfrm>
              <a:off x="2737440" y="3255840"/>
              <a:ext cx="47736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100"/>
          <p:cNvGrpSpPr/>
          <p:nvPr/>
        </p:nvGrpSpPr>
        <p:grpSpPr>
          <a:xfrm>
            <a:off x="4032360" y="3290760"/>
            <a:ext cx="1212840" cy="852480"/>
            <a:chOff x="4032360" y="3290760"/>
            <a:chExt cx="1212840" cy="852480"/>
          </a:xfrm>
        </p:grpSpPr>
        <p:sp>
          <p:nvSpPr>
            <p:cNvPr id="432" name="Rounded Rectangle 12"/>
            <p:cNvSpPr/>
            <p:nvPr/>
          </p:nvSpPr>
          <p:spPr>
            <a:xfrm>
              <a:off x="4032360" y="332064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Implementation Specific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91" descr="Screen shot 2010-03-10 at 2.04.54 PM.png"/>
            <p:cNvPicPr/>
            <p:nvPr/>
          </p:nvPicPr>
          <p:blipFill>
            <a:blip r:embed="rId5"/>
            <a:stretch/>
          </p:blipFill>
          <p:spPr>
            <a:xfrm>
              <a:off x="4434480" y="3290760"/>
              <a:ext cx="392400" cy="31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98"/>
          <p:cNvGrpSpPr/>
          <p:nvPr/>
        </p:nvGrpSpPr>
        <p:grpSpPr>
          <a:xfrm>
            <a:off x="5578560" y="1951200"/>
            <a:ext cx="1406520" cy="969840"/>
            <a:chOff x="5578560" y="1951200"/>
            <a:chExt cx="1406520" cy="969840"/>
          </a:xfrm>
        </p:grpSpPr>
        <p:sp>
          <p:nvSpPr>
            <p:cNvPr id="435" name="Rounded Rectangle 16"/>
            <p:cNvSpPr/>
            <p:nvPr/>
          </p:nvSpPr>
          <p:spPr>
            <a:xfrm>
              <a:off x="5578560" y="2097000"/>
              <a:ext cx="1406520" cy="8240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Pilot Demonstration 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6" name="Picture 93" descr="pilot.png"/>
            <p:cNvPicPr/>
            <p:nvPr/>
          </p:nvPicPr>
          <p:blipFill>
            <a:blip r:embed="rId6"/>
            <a:stretch/>
          </p:blipFill>
          <p:spPr>
            <a:xfrm>
              <a:off x="6063480" y="1951200"/>
              <a:ext cx="476280" cy="47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Group 101"/>
          <p:cNvGrpSpPr/>
          <p:nvPr/>
        </p:nvGrpSpPr>
        <p:grpSpPr>
          <a:xfrm>
            <a:off x="5675400" y="3279600"/>
            <a:ext cx="1212840" cy="863640"/>
            <a:chOff x="5675400" y="3279600"/>
            <a:chExt cx="1212840" cy="863640"/>
          </a:xfrm>
        </p:grpSpPr>
        <p:sp>
          <p:nvSpPr>
            <p:cNvPr id="438" name="Rounded Rectangle 13"/>
            <p:cNvSpPr/>
            <p:nvPr/>
          </p:nvSpPr>
          <p:spPr>
            <a:xfrm>
              <a:off x="5675400" y="3320640"/>
              <a:ext cx="1212840" cy="822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3d8db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246aa2"/>
                  </a:solidFill>
                  <a:latin typeface="Arial"/>
                </a:rPr>
                <a:t>Reference Implemen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Picture 94" descr="check.png"/>
            <p:cNvPicPr/>
            <p:nvPr/>
          </p:nvPicPr>
          <p:blipFill>
            <a:blip r:embed="rId7"/>
            <a:stretch/>
          </p:blipFill>
          <p:spPr>
            <a:xfrm>
              <a:off x="6121080" y="3279600"/>
              <a:ext cx="327600" cy="32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06120" y="-360"/>
            <a:ext cx="555948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Case Development and Functional Requir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3416040"/>
            <a:ext cx="4038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1686c1"/>
                </a:solidFill>
                <a:latin typeface="Arial"/>
              </a:rPr>
              <a:t>Example of a use case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provider wants to send a referral to a specialist electronically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1686c1"/>
                </a:solidFill>
                <a:latin typeface="Arial"/>
              </a:rPr>
              <a:t>Use case describes 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Services 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Standards (package)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Business rules, trust, policies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1686c1"/>
                </a:solidFill>
                <a:latin typeface="Arial"/>
              </a:rPr>
              <a:t>That are necessary to satisfy the use case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48320" y="1526760"/>
            <a:ext cx="403848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1686c1"/>
                </a:solidFill>
                <a:latin typeface="Arial"/>
              </a:rPr>
              <a:t>The process should 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1686c1"/>
                </a:solidFill>
                <a:latin typeface="Arial"/>
              </a:rPr>
              <a:t>Engage a wide community in defining the use cases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1686c1"/>
                </a:solidFill>
                <a:latin typeface="Arial"/>
              </a:rPr>
              <a:t>Focus on solving a real problem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Determines scope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Able to “test” if the use case solves the problem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Prevents “analysis paralysis” 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Does not model in the abstract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19234a"/>
                </a:solidFill>
                <a:latin typeface="Arial"/>
              </a:rPr>
              <a:t>Open, transparent process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1686c1"/>
                </a:solidFill>
                <a:latin typeface="Arial"/>
              </a:rPr>
              <a:t>Establish a “use case steward” to shepherd the use cases through the entire process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25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1686c1"/>
                </a:solidFill>
                <a:latin typeface="Arial"/>
              </a:rPr>
              <a:t>Output is a clear description (in a computable form) that describes the standards, services and policies necessary to describe the use case</a:t>
            </a:r>
            <a:endParaRPr b="0" lang="en-US" sz="17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FB6F6-6ACC-4A80-AA0C-2F57226A0D4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Straight Arrow Connector 4"/>
          <p:cNvCxnSpPr>
            <a:stCxn id="445" idx="3"/>
            <a:endCxn id="446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47" name="Straight Arrow Connector 5"/>
          <p:cNvCxnSpPr>
            <a:stCxn id="446" idx="3"/>
            <a:endCxn id="448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49" name="Straight Arrow Connector 6"/>
          <p:cNvCxnSpPr>
            <a:stCxn id="448" idx="3"/>
            <a:endCxn id="450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51" name="Straight Arrow Connector 7"/>
          <p:cNvCxnSpPr>
            <a:stCxn id="450" idx="3"/>
            <a:endCxn id="452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53" name="Straight Arrow Connector 8"/>
          <p:cNvCxnSpPr>
            <a:stCxn id="454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455" name="Straight Arrow Connector 9"/>
          <p:cNvCxnSpPr>
            <a:stCxn id="456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445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454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452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446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448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456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450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grpSp>
        <p:nvGrpSpPr>
          <p:cNvPr id="464" name="Group 79"/>
          <p:cNvGrpSpPr/>
          <p:nvPr/>
        </p:nvGrpSpPr>
        <p:grpSpPr>
          <a:xfrm>
            <a:off x="136440" y="0"/>
            <a:ext cx="1501920" cy="903240"/>
            <a:chOff x="136440" y="0"/>
            <a:chExt cx="1501920" cy="903240"/>
          </a:xfrm>
        </p:grpSpPr>
        <p:sp>
          <p:nvSpPr>
            <p:cNvPr id="465" name="Rounded Rectangle 77"/>
            <p:cNvSpPr/>
            <p:nvPr/>
          </p:nvSpPr>
          <p:spPr>
            <a:xfrm>
              <a:off x="136440" y="147600"/>
              <a:ext cx="1501920" cy="755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246aa2"/>
                </a:gs>
                <a:gs pos="100000">
                  <a:srgbClr val="123551"/>
                </a:gs>
              </a:gsLst>
              <a:lin ang="5400000"/>
            </a:gradFill>
            <a:ln w="9360">
              <a:solidFill>
                <a:srgbClr val="999ea1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e Case Development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nd Functional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Picture 78" descr="folder.png"/>
            <p:cNvPicPr/>
            <p:nvPr/>
          </p:nvPicPr>
          <p:blipFill>
            <a:blip r:embed="rId8"/>
            <a:stretch/>
          </p:blipFill>
          <p:spPr>
            <a:xfrm>
              <a:off x="650880" y="0"/>
              <a:ext cx="411120" cy="37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0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1" name="Straight Arrow Connector 57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2" name="Straight Arrow Connector 58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monization of Core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Need to have a strong harmonization framework that spans different standards organization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XML/UML computational descriptions of the use ca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rong governance and transparent proces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Use-case driven (bottom up) with top down coordin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Harmonization processes need to describe 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tandard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ervic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Polici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In standard way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75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3A428-04AC-456D-8362-2083DCF61CBC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Straight Arrow Connector 4"/>
          <p:cNvCxnSpPr>
            <a:stCxn id="477" idx="3"/>
            <a:endCxn id="478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79" name="Straight Arrow Connector 5"/>
          <p:cNvCxnSpPr>
            <a:stCxn id="478" idx="3"/>
            <a:endCxn id="480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81" name="Straight Arrow Connector 6"/>
          <p:cNvCxnSpPr>
            <a:stCxn id="480" idx="3"/>
            <a:endCxn id="482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83" name="Straight Arrow Connector 7"/>
          <p:cNvCxnSpPr>
            <a:stCxn id="482" idx="3"/>
            <a:endCxn id="484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485" name="Straight Arrow Connector 8"/>
          <p:cNvCxnSpPr>
            <a:stCxn id="486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487" name="Straight Arrow Connector 9"/>
          <p:cNvCxnSpPr>
            <a:stCxn id="488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477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484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478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480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488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482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496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7" descr="harmonize.png"/>
          <p:cNvPicPr/>
          <p:nvPr/>
        </p:nvPicPr>
        <p:blipFill>
          <a:blip r:embed="rId8"/>
          <a:stretch/>
        </p:blipFill>
        <p:spPr>
          <a:xfrm>
            <a:off x="681120" y="96840"/>
            <a:ext cx="423720" cy="306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57200" y="3416040"/>
            <a:ext cx="4038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Multiple use cases might have overlapping standards, services or policies</a:t>
            </a: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E-prescribing and adverse event reporting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Clinical care summary and quality reporting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Laboratory data exchange and clinical decision support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499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1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2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3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4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monization of Core Concep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648320" y="1526760"/>
            <a:ext cx="403848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Standards harmoniz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Leverage best practic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Use the NIEM processe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Create explicit data exchange package that describe the data elements, vocabularies and value set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Service harmoniz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Leverage services aware enterprise framework (SAEF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Information model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Services descrip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Conformance descrip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Governance (business rules) description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1686c1"/>
                </a:solidFill>
                <a:latin typeface="Arial"/>
              </a:rPr>
              <a:t>Policy descriptions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Harmonization of policies is a challenge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7DDE3-44BA-462A-B77B-4F90BBE91C9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Straight Arrow Connector 4"/>
          <p:cNvCxnSpPr>
            <a:stCxn id="509" idx="3"/>
            <a:endCxn id="510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11" name="Straight Arrow Connector 5"/>
          <p:cNvCxnSpPr>
            <a:stCxn id="510" idx="3"/>
            <a:endCxn id="512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13" name="Straight Arrow Connector 6"/>
          <p:cNvCxnSpPr>
            <a:stCxn id="512" idx="3"/>
            <a:endCxn id="514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15" name="Straight Arrow Connector 7"/>
          <p:cNvCxnSpPr>
            <a:stCxn id="514" idx="3"/>
            <a:endCxn id="516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17" name="Straight Arrow Connector 8"/>
          <p:cNvCxnSpPr>
            <a:stCxn id="518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519" name="Straight Arrow Connector 9"/>
          <p:cNvCxnSpPr>
            <a:stCxn id="520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509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518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516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510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512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520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514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528" name="Rounded Rectangle 45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7" descr="harmonize.png"/>
          <p:cNvPicPr/>
          <p:nvPr/>
        </p:nvPicPr>
        <p:blipFill>
          <a:blip r:embed="rId8"/>
          <a:stretch/>
        </p:blipFill>
        <p:spPr>
          <a:xfrm>
            <a:off x="681120" y="96840"/>
            <a:ext cx="423720" cy="3063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57200" y="3416040"/>
            <a:ext cx="4038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1686c1"/>
                </a:solidFill>
                <a:latin typeface="Arial"/>
              </a:rPr>
              <a:t>Three parts to harmonization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escription of the standards (the data that is exchanged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escription of the services (the functions that will be supported in the exchange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476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19234a"/>
                </a:solidFill>
                <a:latin typeface="Arial"/>
              </a:rPr>
              <a:t>Description of the policy (trust, business rules, etc)</a:t>
            </a:r>
            <a:endParaRPr b="0" lang="en-US" sz="19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31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3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4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5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6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807920" y="-360"/>
            <a:ext cx="603252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the NIEM proces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648320" y="1527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National Information Exchange Model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tarted as a DoJ initiative, but the processes have been generalized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Supported data integration and reporting for Recovery.gov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Used by HHS to support child and family service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Recommended by OMB as best practice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alibri"/>
              </a:rPr>
              <a:t>Used by state and local governments</a:t>
            </a: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bd1931"/>
              </a:buClr>
              <a:buFont typeface="Lucida Grande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19234a"/>
              </a:solidFill>
              <a:latin typeface="Arial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66600" y="6488280"/>
            <a:ext cx="37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92216-3DC6-4C83-A450-50032F4C454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Straight Arrow Connector 4"/>
          <p:cNvCxnSpPr>
            <a:stCxn id="541" idx="3"/>
            <a:endCxn id="542" idx="1"/>
          </p:cNvCxnSpPr>
          <p:nvPr/>
        </p:nvCxnSpPr>
        <p:spPr>
          <a:xfrm>
            <a:off x="1164960" y="2152800"/>
            <a:ext cx="1371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43" name="Straight Arrow Connector 5"/>
          <p:cNvCxnSpPr>
            <a:stCxn id="542" idx="3"/>
            <a:endCxn id="544" idx="1"/>
          </p:cNvCxnSpPr>
          <p:nvPr/>
        </p:nvCxnSpPr>
        <p:spPr>
          <a:xfrm>
            <a:off x="2063880" y="2152800"/>
            <a:ext cx="14976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45" name="Straight Arrow Connector 6"/>
          <p:cNvCxnSpPr>
            <a:stCxn id="544" idx="3"/>
            <a:endCxn id="546" idx="1"/>
          </p:cNvCxnSpPr>
          <p:nvPr/>
        </p:nvCxnSpPr>
        <p:spPr>
          <a:xfrm>
            <a:off x="2814120" y="2152800"/>
            <a:ext cx="21348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47" name="Straight Arrow Connector 7"/>
          <p:cNvCxnSpPr>
            <a:stCxn id="546" idx="3"/>
            <a:endCxn id="548" idx="1"/>
          </p:cNvCxnSpPr>
          <p:nvPr/>
        </p:nvCxnSpPr>
        <p:spPr>
          <a:xfrm>
            <a:off x="3630600" y="2152800"/>
            <a:ext cx="202320" cy="2160"/>
          </a:xfrm>
          <a:prstGeom prst="straightConnector1">
            <a:avLst/>
          </a:prstGeom>
          <a:ln w="15120">
            <a:solidFill>
              <a:srgbClr val="ae2026"/>
            </a:solidFill>
            <a:miter/>
            <a:tailEnd len="sm" type="arrow" w="sm"/>
          </a:ln>
        </p:spPr>
      </p:cxnSp>
      <p:cxnSp>
        <p:nvCxnSpPr>
          <p:cNvPr id="549" name="Straight Arrow Connector 8"/>
          <p:cNvCxnSpPr>
            <a:stCxn id="550" idx="2"/>
          </p:cNvCxnSpPr>
          <p:nvPr/>
        </p:nvCxnSpPr>
        <p:spPr>
          <a:xfrm>
            <a:off x="1683360" y="1708200"/>
            <a:ext cx="1080" cy="19584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cxnSp>
        <p:nvCxnSpPr>
          <p:cNvPr id="551" name="Straight Arrow Connector 9"/>
          <p:cNvCxnSpPr>
            <a:stCxn id="552" idx="2"/>
          </p:cNvCxnSpPr>
          <p:nvPr/>
        </p:nvCxnSpPr>
        <p:spPr>
          <a:xfrm>
            <a:off x="3327840" y="1707840"/>
            <a:ext cx="2520" cy="221400"/>
          </a:xfrm>
          <a:prstGeom prst="straightConnector1">
            <a:avLst/>
          </a:prstGeom>
          <a:ln w="15120">
            <a:solidFill>
              <a:srgbClr val="ae2026"/>
            </a:solidFill>
            <a:miter/>
            <a:headEnd len="sm" type="arrow" w="sm"/>
            <a:tailEnd len="sm" type="arrow" w="sm"/>
          </a:ln>
        </p:spPr>
      </p:cxnSp>
      <p:sp>
        <p:nvSpPr>
          <p:cNvPr id="541" name="Rounded Rectangle 10"/>
          <p:cNvSpPr/>
          <p:nvPr/>
        </p:nvSpPr>
        <p:spPr>
          <a:xfrm>
            <a:off x="355680" y="1949400"/>
            <a:ext cx="80964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Use Case Development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Functional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quiremen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87" descr="folder.png"/>
          <p:cNvPicPr/>
          <p:nvPr/>
        </p:nvPicPr>
        <p:blipFill>
          <a:blip r:embed="rId1"/>
          <a:stretch/>
        </p:blipFill>
        <p:spPr>
          <a:xfrm>
            <a:off x="633240" y="1870200"/>
            <a:ext cx="220680" cy="199800"/>
          </a:xfrm>
          <a:prstGeom prst="rect">
            <a:avLst/>
          </a:prstGeom>
          <a:ln w="0">
            <a:noFill/>
          </a:ln>
        </p:spPr>
      </p:pic>
      <p:sp>
        <p:nvSpPr>
          <p:cNvPr id="550" name="Rounded Rectangle 15"/>
          <p:cNvSpPr/>
          <p:nvPr/>
        </p:nvSpPr>
        <p:spPr>
          <a:xfrm>
            <a:off x="1384200" y="1298520"/>
            <a:ext cx="60192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Standards 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8" descr="tools.png"/>
          <p:cNvPicPr/>
          <p:nvPr/>
        </p:nvPicPr>
        <p:blipFill>
          <a:blip r:embed="rId2"/>
          <a:stretch/>
        </p:blipFill>
        <p:spPr>
          <a:xfrm>
            <a:off x="1593720" y="1249200"/>
            <a:ext cx="193680" cy="203400"/>
          </a:xfrm>
          <a:prstGeom prst="rect">
            <a:avLst/>
          </a:prstGeom>
          <a:ln w="0">
            <a:noFill/>
          </a:ln>
        </p:spPr>
      </p:pic>
      <p:sp>
        <p:nvSpPr>
          <p:cNvPr id="548" name="Rounded Rectangle 14"/>
          <p:cNvSpPr/>
          <p:nvPr/>
        </p:nvSpPr>
        <p:spPr>
          <a:xfrm>
            <a:off x="383220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Certification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and Test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89" descr="computer.png"/>
          <p:cNvPicPr/>
          <p:nvPr/>
        </p:nvPicPr>
        <p:blipFill>
          <a:blip r:embed="rId3"/>
          <a:stretch/>
        </p:blipFill>
        <p:spPr>
          <a:xfrm>
            <a:off x="4027320" y="1895400"/>
            <a:ext cx="220680" cy="192240"/>
          </a:xfrm>
          <a:prstGeom prst="rect">
            <a:avLst/>
          </a:prstGeom>
          <a:ln w="0">
            <a:noFill/>
          </a:ln>
        </p:spPr>
      </p:pic>
      <p:sp>
        <p:nvSpPr>
          <p:cNvPr id="542" name="Rounded Rectangle 11"/>
          <p:cNvSpPr/>
          <p:nvPr/>
        </p:nvSpPr>
        <p:spPr>
          <a:xfrm>
            <a:off x="1301760" y="1949400"/>
            <a:ext cx="76212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500"/>
            </a:b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90" descr="harmonize.png"/>
          <p:cNvPicPr/>
          <p:nvPr/>
        </p:nvPicPr>
        <p:blipFill>
          <a:blip r:embed="rId4"/>
          <a:stretch/>
        </p:blipFill>
        <p:spPr>
          <a:xfrm>
            <a:off x="1569960" y="1916280"/>
            <a:ext cx="236520" cy="171360"/>
          </a:xfrm>
          <a:prstGeom prst="rect">
            <a:avLst/>
          </a:prstGeom>
          <a:ln w="0">
            <a:noFill/>
          </a:ln>
        </p:spPr>
      </p:pic>
      <p:sp>
        <p:nvSpPr>
          <p:cNvPr id="544" name="Rounded Rectangle 12"/>
          <p:cNvSpPr/>
          <p:nvPr/>
        </p:nvSpPr>
        <p:spPr>
          <a:xfrm>
            <a:off x="2212920" y="1949400"/>
            <a:ext cx="6015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Implementation Specific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91" descr="Screen shot 2010-03-10 at 2.04.54 PM.png"/>
          <p:cNvPicPr/>
          <p:nvPr/>
        </p:nvPicPr>
        <p:blipFill>
          <a:blip r:embed="rId5"/>
          <a:stretch/>
        </p:blipFill>
        <p:spPr>
          <a:xfrm>
            <a:off x="2411280" y="1933560"/>
            <a:ext cx="195480" cy="154080"/>
          </a:xfrm>
          <a:prstGeom prst="rect">
            <a:avLst/>
          </a:prstGeom>
          <a:ln w="0">
            <a:noFill/>
          </a:ln>
        </p:spPr>
      </p:pic>
      <p:sp>
        <p:nvSpPr>
          <p:cNvPr id="552" name="Rounded Rectangle 16"/>
          <p:cNvSpPr/>
          <p:nvPr/>
        </p:nvSpPr>
        <p:spPr>
          <a:xfrm>
            <a:off x="2979720" y="1298520"/>
            <a:ext cx="698400" cy="409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Pilot Demonstration Project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93" descr="pilot.png"/>
          <p:cNvPicPr/>
          <p:nvPr/>
        </p:nvPicPr>
        <p:blipFill>
          <a:blip r:embed="rId6"/>
          <a:stretch/>
        </p:blipFill>
        <p:spPr>
          <a:xfrm>
            <a:off x="3220920" y="1201680"/>
            <a:ext cx="236520" cy="233280"/>
          </a:xfrm>
          <a:prstGeom prst="rect">
            <a:avLst/>
          </a:prstGeom>
          <a:ln w="0">
            <a:noFill/>
          </a:ln>
        </p:spPr>
      </p:pic>
      <p:sp>
        <p:nvSpPr>
          <p:cNvPr id="546" name="Rounded Rectangle 13"/>
          <p:cNvSpPr/>
          <p:nvPr/>
        </p:nvSpPr>
        <p:spPr>
          <a:xfrm>
            <a:off x="3027240" y="1949400"/>
            <a:ext cx="603360" cy="407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3d8db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Reference Implementa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94" descr="check.png"/>
          <p:cNvPicPr/>
          <p:nvPr/>
        </p:nvPicPr>
        <p:blipFill>
          <a:blip r:embed="rId7"/>
          <a:stretch/>
        </p:blipFill>
        <p:spPr>
          <a:xfrm>
            <a:off x="3249720" y="192888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560" name="Rounded Rectangle 53"/>
          <p:cNvSpPr/>
          <p:nvPr/>
        </p:nvSpPr>
        <p:spPr>
          <a:xfrm>
            <a:off x="306360" y="2643120"/>
            <a:ext cx="4071960" cy="2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efc"/>
              </a:gs>
              <a:gs pos="100000">
                <a:srgbClr val="a3c1f1"/>
              </a:gs>
            </a:gsLst>
            <a:lin ang="5400000"/>
          </a:gradFill>
          <a:ln w="9360">
            <a:solidFill>
              <a:srgbClr val="2068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Tools and Services</a:t>
            </a:r>
            <a:br>
              <a:rPr sz="500"/>
            </a:br>
            <a:r>
              <a:rPr b="1" lang="en-US" sz="500" spc="-1" strike="noStrike">
                <a:solidFill>
                  <a:srgbClr val="246aa2"/>
                </a:solidFill>
                <a:latin typeface="Arial"/>
              </a:rPr>
              <a:t>(Use Case Development, Harmonization Tools, Vocabulary Browser, Value Set Repository, Testing Scripts, etc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54"/>
          <p:cNvCxnSpPr/>
          <p:nvPr/>
        </p:nvCxnSpPr>
        <p:spPr>
          <a:xfrm flipH="1">
            <a:off x="251280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2" name="Straight Arrow Connector 55"/>
          <p:cNvCxnSpPr/>
          <p:nvPr/>
        </p:nvCxnSpPr>
        <p:spPr>
          <a:xfrm>
            <a:off x="76716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3" name="Straight Arrow Connector 56"/>
          <p:cNvCxnSpPr/>
          <p:nvPr/>
        </p:nvCxnSpPr>
        <p:spPr>
          <a:xfrm flipH="1">
            <a:off x="168984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4" name="Straight Arrow Connector 60"/>
          <p:cNvCxnSpPr/>
          <p:nvPr/>
        </p:nvCxnSpPr>
        <p:spPr>
          <a:xfrm>
            <a:off x="3331080" y="2356920"/>
            <a:ext cx="108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5" name="Straight Arrow Connector 61"/>
          <p:cNvCxnSpPr/>
          <p:nvPr/>
        </p:nvCxnSpPr>
        <p:spPr>
          <a:xfrm flipH="1">
            <a:off x="4132080" y="2356920"/>
            <a:ext cx="2160" cy="266040"/>
          </a:xfrm>
          <a:prstGeom prst="straightConnector1">
            <a:avLst/>
          </a:prstGeom>
          <a:ln w="25560">
            <a:solidFill>
              <a:srgbClr val="246aa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6" name="Rounded Rectangle 46"/>
          <p:cNvSpPr/>
          <p:nvPr/>
        </p:nvSpPr>
        <p:spPr>
          <a:xfrm>
            <a:off x="136440" y="147600"/>
            <a:ext cx="1501920" cy="755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46aa2"/>
              </a:gs>
              <a:gs pos="100000">
                <a:srgbClr val="123551"/>
              </a:gs>
            </a:gsLst>
            <a:lin ang="5400000"/>
          </a:gradFill>
          <a:ln w="9360">
            <a:solidFill>
              <a:srgbClr val="999ea1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armoniz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e Concepts (NIEM framewo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7" descr="harmonize.png"/>
          <p:cNvPicPr/>
          <p:nvPr/>
        </p:nvPicPr>
        <p:blipFill>
          <a:blip r:embed="rId8"/>
          <a:stretch/>
        </p:blipFill>
        <p:spPr>
          <a:xfrm>
            <a:off x="681120" y="96840"/>
            <a:ext cx="423720" cy="30636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9"/>
          <p:cNvGrpSpPr/>
          <p:nvPr/>
        </p:nvGrpSpPr>
        <p:grpSpPr>
          <a:xfrm>
            <a:off x="601560" y="3117960"/>
            <a:ext cx="3392640" cy="3351240"/>
            <a:chOff x="601560" y="3117960"/>
            <a:chExt cx="3392640" cy="3351240"/>
          </a:xfrm>
        </p:grpSpPr>
        <p:pic>
          <p:nvPicPr>
            <p:cNvPr id="569" name="Picture 3" descr="Screen shot 2010-03-12 at 1.54.31 PM.png"/>
            <p:cNvPicPr/>
            <p:nvPr/>
          </p:nvPicPr>
          <p:blipFill>
            <a:blip r:embed="rId9"/>
            <a:stretch/>
          </p:blipFill>
          <p:spPr>
            <a:xfrm>
              <a:off x="601560" y="3117960"/>
              <a:ext cx="3392640" cy="33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Box 4"/>
            <p:cNvSpPr/>
            <p:nvPr/>
          </p:nvSpPr>
          <p:spPr>
            <a:xfrm>
              <a:off x="1800000" y="372132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tie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cove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Box 5"/>
            <p:cNvSpPr/>
            <p:nvPr/>
          </p:nvSpPr>
          <p:spPr>
            <a:xfrm>
              <a:off x="2806560" y="4903920"/>
              <a:ext cx="6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l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por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6"/>
            <p:cNvSpPr/>
            <p:nvPr/>
          </p:nvSpPr>
          <p:spPr>
            <a:xfrm>
              <a:off x="772200" y="4822920"/>
              <a:ext cx="6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cha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Box 7"/>
            <p:cNvSpPr/>
            <p:nvPr/>
          </p:nvSpPr>
          <p:spPr>
            <a:xfrm>
              <a:off x="657360" y="4302720"/>
              <a:ext cx="98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vid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ress look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Box 8"/>
            <p:cNvSpPr/>
            <p:nvPr/>
          </p:nvSpPr>
          <p:spPr>
            <a:xfrm>
              <a:off x="3215520" y="4337280"/>
              <a:ext cx="64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mains</a:t>
              </a:r>
              <a:r>
                <a:rPr b="0" lang="en-US" sz="5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9"/>
            <p:cNvSpPr/>
            <p:nvPr/>
          </p:nvSpPr>
          <p:spPr>
            <a:xfrm>
              <a:off x="2504160" y="3908160"/>
              <a:ext cx="84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-prescrib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10"/>
            <p:cNvSpPr/>
            <p:nvPr/>
          </p:nvSpPr>
          <p:spPr>
            <a:xfrm>
              <a:off x="1059480" y="3908160"/>
              <a:ext cx="6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b dat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Box 11"/>
            <p:cNvSpPr/>
            <p:nvPr/>
          </p:nvSpPr>
          <p:spPr>
            <a:xfrm>
              <a:off x="953640" y="5433480"/>
              <a:ext cx="6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12"/>
            <p:cNvSpPr/>
            <p:nvPr/>
          </p:nvSpPr>
          <p:spPr>
            <a:xfrm>
              <a:off x="1591920" y="5694480"/>
              <a:ext cx="1036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tient summ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13"/>
            <p:cNvSpPr/>
            <p:nvPr/>
          </p:nvSpPr>
          <p:spPr>
            <a:xfrm>
              <a:off x="2584080" y="5333040"/>
              <a:ext cx="62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ild 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mi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i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14"/>
            <p:cNvSpPr/>
            <p:nvPr/>
          </p:nvSpPr>
          <p:spPr>
            <a:xfrm>
              <a:off x="1818360" y="4668120"/>
              <a:ext cx="6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5:24:07Z</dcterms:created>
  <dc:creator>Shannon Leigh</dc:creator>
  <dc:description/>
  <dc:language>en-US</dc:language>
  <cp:lastModifiedBy>USER</cp:lastModifiedBy>
  <dcterms:modified xsi:type="dcterms:W3CDTF">2010-03-24T19:18:02Z</dcterms:modified>
  <cp:revision>72</cp:revision>
  <dc:subject/>
  <dc:title>NHIN Overview</dc:title>
</cp:coreProperties>
</file>